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  <p:sldId id="310" r:id="rId63"/>
    <p:sldId id="311" r:id="rId64"/>
    <p:sldId id="312" r:id="rId65"/>
    <p:sldId id="313" r:id="rId66"/>
    <p:sldId id="314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slide" Target="slides/slide55.xml"/><Relationship Id="rId64" Type="http://schemas.openxmlformats.org/officeDocument/2006/relationships/slide" Target="slides/slide56.xml"/><Relationship Id="rId65" Type="http://schemas.openxmlformats.org/officeDocument/2006/relationships/slide" Target="slides/slide57.xml"/><Relationship Id="rId66" Type="http://schemas.openxmlformats.org/officeDocument/2006/relationships/slide" Target="slides/slide58.xml"/><Relationship Id="rId67" Type="http://schemas.openxmlformats.org/officeDocument/2006/relationships/slide" Target="slides/slide59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8EA6-FC43-40CD-9A5A-2DE66A14E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AC35-6AF2-4D13-87AC-A2981628C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BDB2-9AC8-469A-AD28-D9AF5080B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A1B5-ED5C-4ADA-8FC3-8E7C06725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8B3E5-795D-43B9-B1DC-DC27D9E00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5870E-1F8C-4351-8224-E969EA790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AC1F4-9089-4B15-A599-9C31C4B04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B0DD6-6DBA-4985-BB02-0482F518A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091B5-EDFC-4F4F-B223-1BFCF5EF0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F2B15-376E-4014-9175-7C17074AA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D0709-7B96-4597-8391-4F03DDD5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A6EA-515A-4DBB-8E5E-0D212BD69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7D46F-A15B-42E2-B053-22CC9903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5F514-7CE8-4707-A66F-AB860508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0C4FA-4008-43BF-812D-35C28477B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878A4-3E28-499C-8B0C-FA219FF59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AB846-F547-4972-95CC-B13541A8E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51D79B-CAE9-4AD2-880F-D0D4A1337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F3D56E-FB76-480D-AFAE-69C1DD0E5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261BE6-C283-4248-A163-878B8FD48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4E2DD3-CDF8-4AB5-8DC5-D4C4A4324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690A62-5594-416E-BB2F-959484AA9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FB40-AC1F-4305-BB2A-0F16AE99E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253BCF-D217-4059-BE06-5895246B8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6A7C26-3F38-4EE7-A327-5088800A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02A9A8-659B-4E9D-A11D-4C77DCB6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60459D-47F4-4F13-B10D-B32E1A92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D26AE6-B379-46B5-8682-04EA62BEE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511A0D-1A94-4984-8132-6DAB13A3A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BDA74F-190C-4E89-9115-760B66AAC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9BF6A-739D-48EB-A557-13230F852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2AF6E-FD7F-4287-A0F7-03496BD0C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F3096-51B5-4B66-871F-C616E8123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44C9-7949-486E-B0CE-A70190E55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6E6C4-5475-4806-840F-DE1325C99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F956E-A535-4B15-B098-327B3D790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6B41D-FC1B-4F3B-91D9-493644AA9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5E8D5-DAF2-4596-8781-D0A71D63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404ED-BA35-4805-A045-AEDE1472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4F480-5797-4EDE-B2E2-ABB30038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2AAC6-5349-4F61-9F09-270F461C7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8628A-BBB5-4EC7-A982-384D8E802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1B768-C43D-4855-A1EE-8B8C622D4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DE4B15-02BC-4D86-9289-743CB2C84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EA3C-C4C6-4E08-A0B1-BA2A6AA83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BAD44D-ACDF-4AB1-86F0-F291FB8EF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90715F-C5DA-4CFF-B01C-82D9BD1F0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8D5077-564D-43ED-8ECF-BBAE5F9D1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AC3243-E44C-4A2C-BA41-EE1249FC1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505C67-36D5-4911-B5DE-2C9DF07A8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A5C89C-D31F-43CC-8F6F-30B278A0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FAD6EB-3110-4CCE-9DEC-87EC0D78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9E97FE-D852-4258-B688-6F2332F7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618FFD-B813-4664-98E3-9E443BFDE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091BEB-7563-4418-A47B-B95E95077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D6F3-480B-4D05-BCBE-592D7F5E7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023AD5-BCD6-40A6-9A0C-7398A20CC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1EB6FB-9BD0-4F48-AA7A-0FD60A78C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CFEF6D-31A0-4666-A8E1-D25596DC0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B5327D-40D2-4C65-B034-026BA0116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96D353-074A-499E-B109-3B9D8872E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9A21B7-5DE4-4C32-8E34-8AE0A62AC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F6C9D7-EFC6-40A9-B61C-B95DCFF85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E76019-99C6-418B-AB7C-ACA2D6C7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78FC18-1332-486E-850C-958773B5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F847DB-A2BD-4DB0-8DE6-84030855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1923-38AA-4093-8410-DE0A6580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FD7B19-FEE2-48BB-85F9-B0359EED6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FF2105-FBF8-4B17-883B-2476449D1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6328B8-B445-4EE3-A62E-0F303DC50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929443-7D8D-4730-A3FE-819536C43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A7CBB0-10DB-4AE6-B04D-BDA11C9DC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1247C3-DE6E-423F-A406-C34619C8D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64CFA8-8C09-438F-B5ED-EE10A6EA1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D930E3-B312-4F13-B761-0646B3DC9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3D722E-43B9-409C-AB83-73AE81D35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5B576C-808E-4FBE-9BAB-AF2554F5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317B-CC5E-4A49-A707-2AF6C7EA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132578-5C16-4B0F-919E-95C06437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AEF716-A145-45D1-9530-370137CE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F56807-9E39-4C67-9ED9-63AF9B1EF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19AC16-0170-408C-A399-FAE52AC2A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1518C2-9CC3-4A34-BF06-7C0AE41B7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B955-D0C5-4FFB-909A-FCC84321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41820-58C1-45A7-8B86-691E765DB69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F4167-7B4D-4540-81C6-E79F42C95B4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A6984-2DB3-4516-AC9B-7A6926D2AF1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9AB68-A59B-43DF-9472-F6ABB1F0BDA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23852-7C2E-48D0-BD3B-3C7085A373D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24950-7DC6-4376-B172-7945E8CF4AE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53C0-0C2D-4DEF-8D7D-8D3E5835932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media.pearsoncmg.com/bc/bc_campbell_concepts_5/media/assets/interactivemedia/activityshared/ActivityLoader.html?c6e&amp;22&amp;02&amp;13A%20Darwin%20and%20the%20Galapagos%20Islands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media.pearsoncmg.com/bc/bc_campbell_concepts_5/media/assets/interactivemedia/activityshared/ActivityLoader.html?c6e&amp;22&amp;06&amp;13C%20Reconstructing%20Forelimbs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media.pearsoncmg.com/bc/bc_campbell_concepts_5/media/assets/videos/GalapagosIslands-V.html" TargetMode="External"/><Relationship Id="rId2" Type="http://schemas.openxmlformats.org/officeDocument/2006/relationships/hyperlink" Target="http://media.pearsoncmg.com/bc/bc_campbell_concepts_5/media/assets/videos/MarineIguana-V.html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media.pearsoncmg.com/bc/bc_campbell_concepts_5/media/assets/videos/GrandCanyon-V.html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CHAPTER 13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How Populations Evolv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304920" y="685440"/>
            <a:ext cx="853416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25600" indent="-33516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hile on the voyage of the HMS </a:t>
            </a:r>
            <a:r>
              <a:rPr b="0" i="1" lang="en-US" sz="2100" spc="-1" strike="noStrike">
                <a:solidFill>
                  <a:srgbClr val="000000"/>
                </a:solidFill>
                <a:latin typeface="Century Schoolbook"/>
              </a:rPr>
              <a:t>Beagle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in the 1830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2492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harles Darwin observed similarities between living and fossil organisms and the diversity of life on the Galápagos Islands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2492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2492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2492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2492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Web 13A Darwin and the Galapagos Island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379" name="Group 55"/>
          <p:cNvGrpSpPr/>
          <p:nvPr/>
        </p:nvGrpSpPr>
        <p:grpSpPr>
          <a:xfrm>
            <a:off x="882720" y="254160"/>
            <a:ext cx="7753320" cy="6240240"/>
            <a:chOff x="882720" y="254160"/>
            <a:chExt cx="7753320" cy="6240240"/>
          </a:xfrm>
        </p:grpSpPr>
        <p:sp>
          <p:nvSpPr>
            <p:cNvPr id="380" name="FlagCount" hidden="1"/>
            <p:cNvSpPr/>
            <p:nvPr/>
          </p:nvSpPr>
          <p:spPr>
            <a:xfrm>
              <a:off x="8255160" y="254160"/>
              <a:ext cx="380880" cy="31752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e8637">
                <a:alpha val="25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1" name="Picture 6" descr="_x001a_13_01bBeagleVoyage_CNL.jpg                                     0050CFAB_x0003_203                            BE61E8D3:"/>
            <p:cNvPicPr/>
            <p:nvPr/>
          </p:nvPicPr>
          <p:blipFill>
            <a:blip r:embed="rId2"/>
            <a:stretch/>
          </p:blipFill>
          <p:spPr>
            <a:xfrm>
              <a:off x="1824120" y="3263760"/>
              <a:ext cx="6465960" cy="323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Text Box 7"/>
            <p:cNvSpPr/>
            <p:nvPr/>
          </p:nvSpPr>
          <p:spPr>
            <a:xfrm>
              <a:off x="3534120" y="3822840"/>
              <a:ext cx="46116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orth</a:t>
              </a:r>
              <a:br>
                <a:rPr sz="600"/>
              </a:b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meric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8"/>
            <p:cNvSpPr/>
            <p:nvPr/>
          </p:nvSpPr>
          <p:spPr>
            <a:xfrm>
              <a:off x="5196240" y="3970440"/>
              <a:ext cx="4276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Europ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9"/>
            <p:cNvSpPr/>
            <p:nvPr/>
          </p:nvSpPr>
          <p:spPr>
            <a:xfrm>
              <a:off x="4709160" y="3862440"/>
              <a:ext cx="39708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Great</a:t>
              </a:r>
              <a:br>
                <a:rPr sz="600"/>
              </a:b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Britai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10"/>
            <p:cNvSpPr/>
            <p:nvPr/>
          </p:nvSpPr>
          <p:spPr>
            <a:xfrm>
              <a:off x="5227920" y="4613400"/>
              <a:ext cx="375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fric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11"/>
            <p:cNvSpPr/>
            <p:nvPr/>
          </p:nvSpPr>
          <p:spPr>
            <a:xfrm>
              <a:off x="5981760" y="4842000"/>
              <a:ext cx="4489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Equato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12"/>
            <p:cNvSpPr/>
            <p:nvPr/>
          </p:nvSpPr>
          <p:spPr>
            <a:xfrm>
              <a:off x="6148800" y="3970440"/>
              <a:ext cx="3286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i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13"/>
            <p:cNvSpPr/>
            <p:nvPr/>
          </p:nvSpPr>
          <p:spPr>
            <a:xfrm>
              <a:off x="6812640" y="5229360"/>
              <a:ext cx="4780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ustrali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14"/>
            <p:cNvSpPr/>
            <p:nvPr/>
          </p:nvSpPr>
          <p:spPr>
            <a:xfrm>
              <a:off x="6892920" y="5688000"/>
              <a:ext cx="5176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Tasmani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15"/>
            <p:cNvSpPr/>
            <p:nvPr/>
          </p:nvSpPr>
          <p:spPr>
            <a:xfrm>
              <a:off x="7137360" y="561024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16"/>
            <p:cNvSpPr/>
            <p:nvPr/>
          </p:nvSpPr>
          <p:spPr>
            <a:xfrm>
              <a:off x="7285320" y="5745240"/>
              <a:ext cx="4579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ew</a:t>
              </a:r>
              <a:br>
                <a:rPr sz="600"/>
              </a:b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Zealand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17"/>
            <p:cNvSpPr/>
            <p:nvPr/>
          </p:nvSpPr>
          <p:spPr>
            <a:xfrm flipH="1">
              <a:off x="7483320" y="5518080"/>
              <a:ext cx="36720" cy="246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18"/>
            <p:cNvSpPr/>
            <p:nvPr/>
          </p:nvSpPr>
          <p:spPr>
            <a:xfrm>
              <a:off x="7165800" y="4640400"/>
              <a:ext cx="48096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PACIFIC</a:t>
              </a:r>
              <a:br>
                <a:rPr sz="600"/>
              </a:b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OCEA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 Box 19"/>
            <p:cNvSpPr/>
            <p:nvPr/>
          </p:nvSpPr>
          <p:spPr>
            <a:xfrm>
              <a:off x="4163760" y="4259160"/>
              <a:ext cx="54936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ATLANTIC</a:t>
              </a:r>
              <a:br>
                <a:rPr sz="600"/>
              </a:b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OCEA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xt Box 20"/>
            <p:cNvSpPr/>
            <p:nvPr/>
          </p:nvSpPr>
          <p:spPr>
            <a:xfrm>
              <a:off x="3082680" y="4486320"/>
              <a:ext cx="48096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PACIFIC</a:t>
              </a:r>
              <a:br>
                <a:rPr sz="600"/>
              </a:b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OCEA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 Box 21"/>
            <p:cNvSpPr/>
            <p:nvPr/>
          </p:nvSpPr>
          <p:spPr>
            <a:xfrm>
              <a:off x="2992320" y="4944960"/>
              <a:ext cx="48096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PACIFIC</a:t>
              </a:r>
              <a:br>
                <a:rPr sz="600"/>
              </a:b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OCEA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22"/>
            <p:cNvSpPr/>
            <p:nvPr/>
          </p:nvSpPr>
          <p:spPr>
            <a:xfrm>
              <a:off x="1926720" y="493092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The</a:t>
              </a:r>
              <a:br>
                <a:rPr sz="600"/>
              </a:b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Galápagos</a:t>
              </a:r>
              <a:br>
                <a:rPr sz="600"/>
              </a:b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Island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23"/>
            <p:cNvSpPr/>
            <p:nvPr/>
          </p:nvSpPr>
          <p:spPr>
            <a:xfrm>
              <a:off x="4053240" y="4992840"/>
              <a:ext cx="46116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outh</a:t>
              </a:r>
              <a:br>
                <a:rPr sz="600"/>
              </a:b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meric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 Box 24"/>
            <p:cNvSpPr/>
            <p:nvPr/>
          </p:nvSpPr>
          <p:spPr>
            <a:xfrm>
              <a:off x="3836160" y="5916600"/>
              <a:ext cx="744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Tierra del Fueg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25"/>
            <p:cNvSpPr/>
            <p:nvPr/>
          </p:nvSpPr>
          <p:spPr>
            <a:xfrm>
              <a:off x="4194000" y="5830920"/>
              <a:ext cx="0" cy="98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26"/>
            <p:cNvSpPr/>
            <p:nvPr/>
          </p:nvSpPr>
          <p:spPr>
            <a:xfrm>
              <a:off x="4442400" y="5775480"/>
              <a:ext cx="5511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ape Hor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27"/>
            <p:cNvSpPr/>
            <p:nvPr/>
          </p:nvSpPr>
          <p:spPr>
            <a:xfrm>
              <a:off x="4784760" y="5405400"/>
              <a:ext cx="57240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ape of</a:t>
              </a:r>
              <a:br>
                <a:rPr sz="600"/>
              </a:b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Good Hop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28"/>
            <p:cNvSpPr/>
            <p:nvPr/>
          </p:nvSpPr>
          <p:spPr>
            <a:xfrm flipH="1">
              <a:off x="5151600" y="5481720"/>
              <a:ext cx="257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9"/>
            <p:cNvSpPr/>
            <p:nvPr/>
          </p:nvSpPr>
          <p:spPr>
            <a:xfrm>
              <a:off x="4273560" y="5851440"/>
              <a:ext cx="214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30"/>
            <p:cNvSpPr/>
            <p:nvPr/>
          </p:nvSpPr>
          <p:spPr>
            <a:xfrm flipH="1" rot="16200000">
              <a:off x="3917160" y="5389560"/>
              <a:ext cx="4334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nd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31"/>
            <p:cNvSpPr/>
            <p:nvPr/>
          </p:nvSpPr>
          <p:spPr>
            <a:xfrm>
              <a:off x="2538720" y="5078520"/>
              <a:ext cx="354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Pint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 Box 32"/>
            <p:cNvSpPr/>
            <p:nvPr/>
          </p:nvSpPr>
          <p:spPr>
            <a:xfrm>
              <a:off x="2454480" y="5281560"/>
              <a:ext cx="522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Marchen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 Box 33"/>
            <p:cNvSpPr/>
            <p:nvPr/>
          </p:nvSpPr>
          <p:spPr>
            <a:xfrm>
              <a:off x="2946600" y="5202360"/>
              <a:ext cx="529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Genoves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34"/>
            <p:cNvSpPr/>
            <p:nvPr/>
          </p:nvSpPr>
          <p:spPr>
            <a:xfrm>
              <a:off x="3071880" y="5359320"/>
              <a:ext cx="4489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Equato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 Box 35"/>
            <p:cNvSpPr/>
            <p:nvPr/>
          </p:nvSpPr>
          <p:spPr>
            <a:xfrm>
              <a:off x="2488320" y="5416560"/>
              <a:ext cx="48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Santiag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36"/>
            <p:cNvSpPr/>
            <p:nvPr/>
          </p:nvSpPr>
          <p:spPr>
            <a:xfrm>
              <a:off x="2188080" y="5803920"/>
              <a:ext cx="4276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Isabel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37"/>
            <p:cNvSpPr/>
            <p:nvPr/>
          </p:nvSpPr>
          <p:spPr>
            <a:xfrm>
              <a:off x="1914840" y="5672160"/>
              <a:ext cx="5695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Fernandin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38"/>
            <p:cNvSpPr/>
            <p:nvPr/>
          </p:nvSpPr>
          <p:spPr>
            <a:xfrm>
              <a:off x="2555640" y="6114960"/>
              <a:ext cx="4795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Florenz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39"/>
            <p:cNvSpPr/>
            <p:nvPr/>
          </p:nvSpPr>
          <p:spPr>
            <a:xfrm>
              <a:off x="2947320" y="6140520"/>
              <a:ext cx="4993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Español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Text Box 40"/>
            <p:cNvSpPr/>
            <p:nvPr/>
          </p:nvSpPr>
          <p:spPr>
            <a:xfrm>
              <a:off x="3015360" y="5904000"/>
              <a:ext cx="48240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San</a:t>
              </a:r>
              <a:br>
                <a:rPr sz="600"/>
              </a:b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Cristoba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1"/>
            <p:cNvSpPr/>
            <p:nvPr/>
          </p:nvSpPr>
          <p:spPr>
            <a:xfrm>
              <a:off x="2535480" y="5819760"/>
              <a:ext cx="3805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anta</a:t>
              </a:r>
              <a:br>
                <a:rPr sz="600"/>
              </a:b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ruz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42"/>
            <p:cNvSpPr/>
            <p:nvPr/>
          </p:nvSpPr>
          <p:spPr>
            <a:xfrm>
              <a:off x="2765520" y="5853240"/>
              <a:ext cx="3805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Santa</a:t>
              </a:r>
              <a:br>
                <a:rPr sz="600"/>
              </a:b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F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43"/>
            <p:cNvSpPr/>
            <p:nvPr/>
          </p:nvSpPr>
          <p:spPr>
            <a:xfrm>
              <a:off x="2451960" y="5624640"/>
              <a:ext cx="414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Pinzó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 Box 44"/>
            <p:cNvSpPr/>
            <p:nvPr/>
          </p:nvSpPr>
          <p:spPr>
            <a:xfrm>
              <a:off x="2858400" y="5505480"/>
              <a:ext cx="4489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Daphne</a:t>
              </a:r>
              <a:br>
                <a:rPr sz="600"/>
              </a:b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Island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45"/>
            <p:cNvSpPr/>
            <p:nvPr/>
          </p:nvSpPr>
          <p:spPr>
            <a:xfrm flipV="1">
              <a:off x="2770200" y="5575320"/>
              <a:ext cx="16524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Line 46"/>
            <p:cNvSpPr/>
            <p:nvPr/>
          </p:nvSpPr>
          <p:spPr>
            <a:xfrm flipH="1">
              <a:off x="2798640" y="5568840"/>
              <a:ext cx="13680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47"/>
            <p:cNvSpPr/>
            <p:nvPr/>
          </p:nvSpPr>
          <p:spPr>
            <a:xfrm>
              <a:off x="2373480" y="6200640"/>
              <a:ext cx="465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40 mil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48"/>
            <p:cNvSpPr/>
            <p:nvPr/>
          </p:nvSpPr>
          <p:spPr>
            <a:xfrm>
              <a:off x="2182320" y="6062760"/>
              <a:ext cx="3895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40 km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49"/>
            <p:cNvSpPr/>
            <p:nvPr/>
          </p:nvSpPr>
          <p:spPr>
            <a:xfrm>
              <a:off x="1931760" y="6091200"/>
              <a:ext cx="2448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0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50"/>
            <p:cNvSpPr/>
            <p:nvPr/>
          </p:nvSpPr>
          <p:spPr>
            <a:xfrm>
              <a:off x="1931760" y="6221520"/>
              <a:ext cx="2448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0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53"/>
            <p:cNvSpPr/>
            <p:nvPr/>
          </p:nvSpPr>
          <p:spPr>
            <a:xfrm>
              <a:off x="882720" y="615312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3.1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Rectangle 56"/>
          <p:cNvSpPr/>
          <p:nvPr/>
        </p:nvSpPr>
        <p:spPr>
          <a:xfrm>
            <a:off x="3629160" y="4842000"/>
            <a:ext cx="147600" cy="114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304920" y="685800"/>
            <a:ext cx="8534160" cy="54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arwin’s experiences during the voyage of the </a:t>
            </a:r>
            <a:r>
              <a:rPr b="0" i="1" lang="en-US" sz="2100" spc="-1" strike="noStrike">
                <a:solidFill>
                  <a:srgbClr val="000000"/>
                </a:solidFill>
                <a:latin typeface="Century Schoolbook"/>
              </a:rPr>
              <a:t>Beagle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helped him frame his ideas on evolut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33480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pecies evolve as a result of their interactions with their environment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33480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Darwin was influenced by Lyell’s Principles of Geology, in which he promoted the idea of continual, gradual, and consistent geological change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33480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Darwin coined the term, decent with modification,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334800"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 unity among organisms related through descent from an ancestor that lived in the remote past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334800"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Over millions of years they accumulated diveses adaptations that allowed them to survive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33480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WAS DARWIN’S PHRASE FOR EVOLUTION? WHAT DOES IT MEAN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ctivity 13B: The Voyage of the 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Beagle: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Darwin's Trip Around the World (13.1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304920" y="685800"/>
            <a:ext cx="8534160" cy="40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3.2 Darwin proposed natural selection as the mechanism of evolu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1756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arwin observed that organism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3348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Produce more offspring than the environment can suppor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3348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Vary in many characteristics that can be inherited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04920" y="685440"/>
            <a:ext cx="853416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arwin reasoned that natural select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Results in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favored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traits being represented more and more and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unfavored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ones less and less in ensuing generations of organism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Darwin observed that species tend to produce excessive numbers of offspring, that the expression of traits varies among the individuals of a population, and that many of these traits are heritable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e75c01"/>
                </a:solidFill>
                <a:latin typeface="Century Schoolbook"/>
              </a:rPr>
              <a:t>WHAT DO OVERPRODUCTION OF OFFSPRING, AND HERITABLE VARIATIONS HAVE TO DO WITH ORGANISMS BECOMING ADAPTED TO THEIR ENVIRONMENT?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6840" y="2634840"/>
            <a:ext cx="7467480" cy="38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. Every environment has a limited supply of resourc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. Survival in a limited environment depends in part on the features the organisms inherit from their parent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3. Those with characteristics favored the environment went on to reprodu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4. Darwin referred to this process 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i="1" lang="en-US" sz="2400" spc="-1" strike="noStrike" u="sng">
                <a:solidFill>
                  <a:srgbClr val="e75c01"/>
                </a:solidFill>
                <a:uFillTx/>
                <a:latin typeface="Century Schoolbook"/>
              </a:rPr>
              <a:t>Natural Selec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304920" y="685800"/>
            <a:ext cx="8534160" cy="216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5480" indent="-34272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arwin found convincing evidence for his ideas in the results of </a:t>
            </a:r>
            <a:r>
              <a:rPr b="0" i="1" lang="en-US" sz="2100" spc="-1" strike="noStrike">
                <a:solidFill>
                  <a:srgbClr val="000000"/>
                </a:solidFill>
                <a:latin typeface="Century Schoolbook"/>
              </a:rPr>
              <a:t>artificial select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41400" indent="-5713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e selective breeding of domesticated plants and animals (modifying species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Group 16"/>
          <p:cNvGrpSpPr/>
          <p:nvPr/>
        </p:nvGrpSpPr>
        <p:grpSpPr>
          <a:xfrm>
            <a:off x="420840" y="2773440"/>
            <a:ext cx="8299440" cy="3591000"/>
            <a:chOff x="420840" y="2773440"/>
            <a:chExt cx="8299440" cy="3591000"/>
          </a:xfrm>
        </p:grpSpPr>
        <p:pic>
          <p:nvPicPr>
            <p:cNvPr id="441" name="Picture 5" descr="_x001e_13_02aArtifSelectPlants_UP.jpg                                 0050CFAB_x0003_203                            BE61E8D3:"/>
            <p:cNvPicPr/>
            <p:nvPr/>
          </p:nvPicPr>
          <p:blipFill>
            <a:blip r:embed="rId1"/>
            <a:stretch/>
          </p:blipFill>
          <p:spPr>
            <a:xfrm>
              <a:off x="420840" y="2773440"/>
              <a:ext cx="2862360" cy="33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Text Box 11"/>
            <p:cNvSpPr/>
            <p:nvPr/>
          </p:nvSpPr>
          <p:spPr>
            <a:xfrm>
              <a:off x="1360800" y="608796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3.2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3" name="Picture 7" descr="_x001d_13_02BArtifSelectDogs_CNL.jpg                                  0050CFAB_x0003_203                            BE61E8D3:"/>
            <p:cNvPicPr/>
            <p:nvPr/>
          </p:nvPicPr>
          <p:blipFill>
            <a:blip r:embed="rId2"/>
            <a:stretch/>
          </p:blipFill>
          <p:spPr>
            <a:xfrm>
              <a:off x="3821040" y="3008160"/>
              <a:ext cx="4899240" cy="315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Text Box 8"/>
            <p:cNvSpPr/>
            <p:nvPr/>
          </p:nvSpPr>
          <p:spPr>
            <a:xfrm>
              <a:off x="5407200" y="5036760"/>
              <a:ext cx="1764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undreds to thousands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 years of breeding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artificial selection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Text Box 9"/>
            <p:cNvSpPr/>
            <p:nvPr/>
          </p:nvSpPr>
          <p:spPr>
            <a:xfrm>
              <a:off x="5508360" y="5727600"/>
              <a:ext cx="153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cestral dog (wolf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12"/>
            <p:cNvSpPr/>
            <p:nvPr/>
          </p:nvSpPr>
          <p:spPr>
            <a:xfrm>
              <a:off x="5780520" y="607680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3.2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304920" y="241200"/>
            <a:ext cx="8534160" cy="14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arwin proposed that living speci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56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re descended from earlier life forms and that natural selection is the mechanism of evoluti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36"/>
          <p:cNvGrpSpPr/>
          <p:nvPr/>
        </p:nvGrpSpPr>
        <p:grpSpPr>
          <a:xfrm>
            <a:off x="213120" y="3681360"/>
            <a:ext cx="6234840" cy="2886480"/>
            <a:chOff x="213120" y="3681360"/>
            <a:chExt cx="6234840" cy="2886480"/>
          </a:xfrm>
        </p:grpSpPr>
        <p:pic>
          <p:nvPicPr>
            <p:cNvPr id="450" name="Picture 34" descr="_x001d_13_02cCanineNatSelect_CNL.jpg                                  0050CFAB_x0003_203                            BE723100:"/>
            <p:cNvPicPr/>
            <p:nvPr/>
          </p:nvPicPr>
          <p:blipFill>
            <a:blip r:embed="rId1"/>
            <a:stretch/>
          </p:blipFill>
          <p:spPr>
            <a:xfrm>
              <a:off x="712080" y="3681360"/>
              <a:ext cx="5735880" cy="287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Text Box 24"/>
            <p:cNvSpPr/>
            <p:nvPr/>
          </p:nvSpPr>
          <p:spPr>
            <a:xfrm>
              <a:off x="2969280" y="5539320"/>
              <a:ext cx="1239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housands to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illions of years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f natural sele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 Box 25"/>
            <p:cNvSpPr/>
            <p:nvPr/>
          </p:nvSpPr>
          <p:spPr>
            <a:xfrm>
              <a:off x="3027960" y="6227640"/>
              <a:ext cx="111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cestral can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 Box 26"/>
            <p:cNvSpPr/>
            <p:nvPr/>
          </p:nvSpPr>
          <p:spPr>
            <a:xfrm>
              <a:off x="961560" y="5059800"/>
              <a:ext cx="1070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frican wild do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27"/>
            <p:cNvSpPr/>
            <p:nvPr/>
          </p:nvSpPr>
          <p:spPr>
            <a:xfrm>
              <a:off x="2215800" y="5059800"/>
              <a:ext cx="58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yo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Text Box 28"/>
            <p:cNvSpPr/>
            <p:nvPr/>
          </p:nvSpPr>
          <p:spPr>
            <a:xfrm>
              <a:off x="3370680" y="5067000"/>
              <a:ext cx="43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ol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 Box 29"/>
            <p:cNvSpPr/>
            <p:nvPr/>
          </p:nvSpPr>
          <p:spPr>
            <a:xfrm>
              <a:off x="4426200" y="5069520"/>
              <a:ext cx="392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o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30"/>
            <p:cNvSpPr/>
            <p:nvPr/>
          </p:nvSpPr>
          <p:spPr>
            <a:xfrm>
              <a:off x="5396040" y="5063400"/>
              <a:ext cx="54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Jack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Text Box 32"/>
            <p:cNvSpPr/>
            <p:nvPr/>
          </p:nvSpPr>
          <p:spPr>
            <a:xfrm>
              <a:off x="213120" y="629136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3.2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9" name="Picture 7" descr="_x001d_13_02BArtifSelectDogs_CNL.jpg                                  0050CFAB_x0003_203                            BE61E8D3:"/>
          <p:cNvPicPr/>
          <p:nvPr/>
        </p:nvPicPr>
        <p:blipFill>
          <a:blip r:embed="rId2"/>
          <a:stretch/>
        </p:blipFill>
        <p:spPr>
          <a:xfrm>
            <a:off x="4871880" y="1324080"/>
            <a:ext cx="3908520" cy="2600280"/>
          </a:xfrm>
          <a:prstGeom prst="rect">
            <a:avLst/>
          </a:prstGeom>
          <a:ln w="0">
            <a:noFill/>
          </a:ln>
        </p:spPr>
      </p:pic>
      <p:sp>
        <p:nvSpPr>
          <p:cNvPr id="460" name="TextBox 14"/>
          <p:cNvSpPr/>
          <p:nvPr/>
        </p:nvSpPr>
        <p:spPr>
          <a:xfrm>
            <a:off x="376200" y="1647720"/>
            <a:ext cx="4424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ndreds to thousands of years of breeding (artificial sele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cestral dog (wo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1" name="Straight Arrow Connector 16"/>
          <p:cNvCxnSpPr/>
          <p:nvPr/>
        </p:nvCxnSpPr>
        <p:spPr>
          <a:xfrm flipV="1">
            <a:off x="3741480" y="2164680"/>
            <a:ext cx="1130760" cy="133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62" name="Straight Arrow Connector 20"/>
          <p:cNvCxnSpPr/>
          <p:nvPr/>
        </p:nvCxnSpPr>
        <p:spPr>
          <a:xfrm>
            <a:off x="2382480" y="2947680"/>
            <a:ext cx="747000" cy="6865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WO IMPORTANT POINTS CAN BE DRAWN FROM DARWIN’S THEORY OF NATURAL SELECTION: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.Ancestral species gave rise to the diverse life forms by transfer of heritable traits to offspring that best promote reproduction. He called this </a:t>
            </a:r>
            <a:r>
              <a:rPr b="0" lang="en-US" sz="2400" spc="-1" strike="noStrike">
                <a:solidFill>
                  <a:srgbClr val="e75c01"/>
                </a:solidFill>
                <a:latin typeface="Century Schoolbook"/>
              </a:rPr>
              <a:t>“</a:t>
            </a:r>
            <a:r>
              <a:rPr b="1" i="1" lang="en-US" sz="2400" spc="-1" strike="noStrike">
                <a:solidFill>
                  <a:srgbClr val="e75c01"/>
                </a:solidFill>
                <a:latin typeface="Century Schoolbook"/>
              </a:rPr>
              <a:t>descent with modification</a:t>
            </a:r>
            <a:r>
              <a:rPr b="0" lang="en-US" sz="2400" spc="-1" strike="noStrike">
                <a:solidFill>
                  <a:srgbClr val="e75c01"/>
                </a:solidFill>
                <a:latin typeface="Century Schoolbook"/>
              </a:rPr>
              <a:t>.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.Over vast amounts of time, the gradual accumulation of changes in the characteristics among the individuals in a population occur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232920" y="241200"/>
            <a:ext cx="8534520" cy="25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3.3 The study of fossils provides strong evidence for evolu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44600" indent="-33012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Fossils and the fossil record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17440" indent="-5587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trongly support the theory of evoluti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Group 26"/>
          <p:cNvGrpSpPr/>
          <p:nvPr/>
        </p:nvGrpSpPr>
        <p:grpSpPr>
          <a:xfrm>
            <a:off x="1534680" y="2370240"/>
            <a:ext cx="6838920" cy="4181040"/>
            <a:chOff x="1534680" y="2370240"/>
            <a:chExt cx="6838920" cy="4181040"/>
          </a:xfrm>
        </p:grpSpPr>
        <p:pic>
          <p:nvPicPr>
            <p:cNvPr id="468" name="Picture 12" descr="_x0013_13_03gIceMan_UP.jpg                                            0050CFAB_x0003_203                            BE61E8D3:"/>
            <p:cNvPicPr/>
            <p:nvPr/>
          </p:nvPicPr>
          <p:blipFill>
            <a:blip r:embed="rId1"/>
            <a:stretch/>
          </p:blipFill>
          <p:spPr>
            <a:xfrm>
              <a:off x="6383880" y="5076360"/>
              <a:ext cx="1740960" cy="137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9" name="Picture 6" descr="_x001d_13_03aHomoErectusSkull_UP.jpg                                  0050CFAB_x0003_203                            BE61E8D3:"/>
            <p:cNvPicPr/>
            <p:nvPr/>
          </p:nvPicPr>
          <p:blipFill>
            <a:blip r:embed="rId2"/>
            <a:stretch/>
          </p:blipFill>
          <p:spPr>
            <a:xfrm>
              <a:off x="5055120" y="2370240"/>
              <a:ext cx="1267920" cy="95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7" descr="_x001a_13_03bPetrifiedTree_UP.jpg                                     0050CFAB_x0003_203                            BE61E8D3:"/>
            <p:cNvPicPr/>
            <p:nvPr/>
          </p:nvPicPr>
          <p:blipFill>
            <a:blip r:embed="rId3"/>
            <a:stretch/>
          </p:blipFill>
          <p:spPr>
            <a:xfrm>
              <a:off x="3408840" y="3199680"/>
              <a:ext cx="1455840" cy="171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1" name="Picture 8" descr="_x001a_13_03cAmmoniteCasts_UP.jpg                                     0050CFAB_x0003_203                            BE61E8D3:"/>
            <p:cNvPicPr/>
            <p:nvPr/>
          </p:nvPicPr>
          <p:blipFill>
            <a:blip r:embed="rId4"/>
            <a:stretch/>
          </p:blipFill>
          <p:spPr>
            <a:xfrm>
              <a:off x="4903920" y="3661920"/>
              <a:ext cx="1853640" cy="127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Picture 9" descr="_x001b_13_03dDinosaurTracks_UP.jpg                                    0050CFAB_x0003_203                            BE61E8D3:"/>
            <p:cNvPicPr/>
            <p:nvPr/>
          </p:nvPicPr>
          <p:blipFill>
            <a:blip r:embed="rId5"/>
            <a:stretch/>
          </p:blipFill>
          <p:spPr>
            <a:xfrm>
              <a:off x="6805440" y="3195360"/>
              <a:ext cx="1568160" cy="171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Picture 10" descr="_x001b_13_03eFossilizedLeaf_UP.jpg                                    0050CFAB_x0003_203                            BE61E8D3:"/>
            <p:cNvPicPr/>
            <p:nvPr/>
          </p:nvPicPr>
          <p:blipFill>
            <a:blip r:embed="rId6"/>
            <a:stretch/>
          </p:blipFill>
          <p:spPr>
            <a:xfrm>
              <a:off x="3343680" y="5059440"/>
              <a:ext cx="1592280" cy="95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4" name="Picture 11" descr="_x0018_13_03fInsectAmber_UP.jpg                                       0050CFAB_x0003_203                            BE61E8D3:"/>
            <p:cNvPicPr/>
            <p:nvPr/>
          </p:nvPicPr>
          <p:blipFill>
            <a:blip r:embed="rId7"/>
            <a:stretch/>
          </p:blipFill>
          <p:spPr>
            <a:xfrm rot="10828200">
              <a:off x="4924440" y="5063760"/>
              <a:ext cx="1367640" cy="113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5" name="Text Box 13"/>
            <p:cNvSpPr/>
            <p:nvPr/>
          </p:nvSpPr>
          <p:spPr>
            <a:xfrm>
              <a:off x="5474160" y="3171600"/>
              <a:ext cx="84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Skull of</a:t>
              </a: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 Homo</a:t>
              </a:r>
              <a:br>
                <a:rPr sz="700"/>
              </a:b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erectu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14"/>
            <p:cNvSpPr/>
            <p:nvPr/>
          </p:nvSpPr>
          <p:spPr>
            <a:xfrm>
              <a:off x="7062120" y="4827960"/>
              <a:ext cx="904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Dinosaur track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15"/>
            <p:cNvSpPr/>
            <p:nvPr/>
          </p:nvSpPr>
          <p:spPr>
            <a:xfrm>
              <a:off x="5348160" y="4823640"/>
              <a:ext cx="919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Ammonite cast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16"/>
            <p:cNvSpPr/>
            <p:nvPr/>
          </p:nvSpPr>
          <p:spPr>
            <a:xfrm>
              <a:off x="3738600" y="4823640"/>
              <a:ext cx="792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Petrified tre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17"/>
            <p:cNvSpPr/>
            <p:nvPr/>
          </p:nvSpPr>
          <p:spPr>
            <a:xfrm>
              <a:off x="3643560" y="5975640"/>
              <a:ext cx="99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Fossilized organic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atter of a leaf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 Box 19"/>
            <p:cNvSpPr/>
            <p:nvPr/>
          </p:nvSpPr>
          <p:spPr>
            <a:xfrm>
              <a:off x="6918120" y="6149160"/>
              <a:ext cx="668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“Ice Man”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21"/>
            <p:cNvSpPr/>
            <p:nvPr/>
          </p:nvSpPr>
          <p:spPr>
            <a:xfrm>
              <a:off x="1534680" y="6274800"/>
              <a:ext cx="130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3.3A–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Text Box 24"/>
            <p:cNvSpPr/>
            <p:nvPr/>
          </p:nvSpPr>
          <p:spPr>
            <a:xfrm>
              <a:off x="5168520" y="5922720"/>
              <a:ext cx="883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F  Insect in amb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153880" y="153684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“</a:t>
            </a: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NOTHING IN BIOLOGY MAKES SENSE EXCEPT IN THE LIGHT OF EVOLUTION.”  T. DOBZHANSK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2238120" y="39211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304920" y="685800"/>
            <a:ext cx="8534160" cy="16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5480" indent="-342720"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fossil record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6200" indent="-546120">
              <a:spcBef>
                <a:spcPts val="56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Reveals that organisms have evolved in a historical sequenc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28"/>
          <p:cNvGrpSpPr/>
          <p:nvPr/>
        </p:nvGrpSpPr>
        <p:grpSpPr>
          <a:xfrm>
            <a:off x="1659240" y="2266920"/>
            <a:ext cx="5533560" cy="4191120"/>
            <a:chOff x="1659240" y="2266920"/>
            <a:chExt cx="5533560" cy="4191120"/>
          </a:xfrm>
        </p:grpSpPr>
        <p:pic>
          <p:nvPicPr>
            <p:cNvPr id="486" name="Picture 23" descr="_x0017_13_03hRockStrata_UP.jpg                                        0050CFAB_x0003_203                            BE61E8D3:"/>
            <p:cNvPicPr/>
            <p:nvPr/>
          </p:nvPicPr>
          <p:blipFill>
            <a:blip r:embed="rId1"/>
            <a:stretch/>
          </p:blipFill>
          <p:spPr>
            <a:xfrm>
              <a:off x="2695680" y="2266920"/>
              <a:ext cx="4497120" cy="41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Text Box 26"/>
            <p:cNvSpPr/>
            <p:nvPr/>
          </p:nvSpPr>
          <p:spPr>
            <a:xfrm>
              <a:off x="1659240" y="612936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3.3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304920" y="685800"/>
            <a:ext cx="853416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any fossils link early extinct species with species living today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17"/>
          <p:cNvGrpSpPr/>
          <p:nvPr/>
        </p:nvGrpSpPr>
        <p:grpSpPr>
          <a:xfrm>
            <a:off x="1051200" y="2143080"/>
            <a:ext cx="7040160" cy="4351320"/>
            <a:chOff x="1051200" y="2143080"/>
            <a:chExt cx="7040160" cy="4351320"/>
          </a:xfrm>
        </p:grpSpPr>
        <p:pic>
          <p:nvPicPr>
            <p:cNvPr id="491" name="Picture 14" descr="_x001a_13_03IExtinctWhale_CNL.jpg                                     0050CFAB_x0003_203                            BE61E8D3:"/>
            <p:cNvPicPr/>
            <p:nvPr/>
          </p:nvPicPr>
          <p:blipFill>
            <a:blip r:embed="rId1"/>
            <a:stretch/>
          </p:blipFill>
          <p:spPr>
            <a:xfrm>
              <a:off x="2049480" y="2143080"/>
              <a:ext cx="6041880" cy="43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Text Box 15"/>
            <p:cNvSpPr/>
            <p:nvPr/>
          </p:nvSpPr>
          <p:spPr>
            <a:xfrm>
              <a:off x="1051200" y="6153120"/>
              <a:ext cx="103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3.3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TextBox 6"/>
          <p:cNvSpPr/>
          <p:nvPr/>
        </p:nvSpPr>
        <p:spPr>
          <a:xfrm>
            <a:off x="289080" y="1395360"/>
            <a:ext cx="655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losaurus, an extinct whale whose hind legs link living whales with their land-dwelling ances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13.4 A MASS OF OTHER EVIDENCE REINFORCES THE EVOLUTIONARY VIEW OF LIFE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Biogeograph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Biogeography, the geographic distribution of speci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pecies at different geographical regions are similar to each othe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s suggested to Darwin that organisms evolve from common ancestor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arwin noted that Galápagos animal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Resembled species of the South American mainland more than animals on similar but distant island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304920" y="685800"/>
            <a:ext cx="853416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Comparative anatom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Comparative anatomy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Is the comparison of body structures in different speci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2087640" indent="-533520"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natomical similarities between many species give signs of common decent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2087640" indent="-533520"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or example, all mammals have the same basic limb structure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Homology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Is the similarity in characteristics that result from common ancestry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04920" y="685800"/>
            <a:ext cx="8534160" cy="20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739440" indent="-312120"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Homologous structur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663920" indent="-496800">
              <a:spcBef>
                <a:spcPts val="56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re features that often have </a:t>
            </a:r>
            <a:r>
              <a:rPr b="1" i="1" lang="en-US" sz="1800" spc="-1" strike="noStrike">
                <a:solidFill>
                  <a:srgbClr val="e75c01"/>
                </a:solidFill>
                <a:latin typeface="Century Schoolbook"/>
              </a:rPr>
              <a:t>different functions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but are </a:t>
            </a:r>
            <a:r>
              <a:rPr b="1" i="1" lang="en-US" sz="1800" spc="-1" strike="noStrike">
                <a:solidFill>
                  <a:srgbClr val="e75c01"/>
                </a:solidFill>
                <a:latin typeface="Century Schoolbook"/>
              </a:rPr>
              <a:t>structurally similar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because of common ancestry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663920" indent="-496800">
              <a:spcBef>
                <a:spcPts val="56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Evolution is a remodeling process.  </a:t>
            </a:r>
            <a:r>
              <a:rPr b="0" lang="en-US" sz="18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Web activity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39440" indent="-312120"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Vestigial organ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663920" indent="-496800">
              <a:spcBef>
                <a:spcPts val="56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Organs that have no know function that are remains from ancestors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0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Group 22"/>
          <p:cNvGrpSpPr/>
          <p:nvPr/>
        </p:nvGrpSpPr>
        <p:grpSpPr>
          <a:xfrm>
            <a:off x="920880" y="2921040"/>
            <a:ext cx="6365880" cy="3367800"/>
            <a:chOff x="920880" y="2921040"/>
            <a:chExt cx="6365880" cy="3367800"/>
          </a:xfrm>
        </p:grpSpPr>
        <p:pic>
          <p:nvPicPr>
            <p:cNvPr id="502" name="Picture 15" descr="_x001f_13_04aHomologousForelimbs_U.jpg                                0050CFAB_x0003_203                            BE61E8D3:"/>
            <p:cNvPicPr/>
            <p:nvPr/>
          </p:nvPicPr>
          <p:blipFill>
            <a:blip r:embed="rId2"/>
            <a:stretch/>
          </p:blipFill>
          <p:spPr>
            <a:xfrm>
              <a:off x="2079720" y="2921040"/>
              <a:ext cx="5207040" cy="30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Text Box 16"/>
            <p:cNvSpPr/>
            <p:nvPr/>
          </p:nvSpPr>
          <p:spPr>
            <a:xfrm>
              <a:off x="2132280" y="5951520"/>
              <a:ext cx="83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um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Text Box 17"/>
            <p:cNvSpPr/>
            <p:nvPr/>
          </p:nvSpPr>
          <p:spPr>
            <a:xfrm>
              <a:off x="3349800" y="594036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a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Text Box 18"/>
            <p:cNvSpPr/>
            <p:nvPr/>
          </p:nvSpPr>
          <p:spPr>
            <a:xfrm>
              <a:off x="4763520" y="5940360"/>
              <a:ext cx="75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ha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 Box 19"/>
            <p:cNvSpPr/>
            <p:nvPr/>
          </p:nvSpPr>
          <p:spPr>
            <a:xfrm>
              <a:off x="6487920" y="5942160"/>
              <a:ext cx="48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a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 Box 20"/>
            <p:cNvSpPr/>
            <p:nvPr/>
          </p:nvSpPr>
          <p:spPr>
            <a:xfrm>
              <a:off x="920880" y="600732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3.4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 txBox="1"/>
          <p:nvPr/>
        </p:nvSpPr>
        <p:spPr>
          <a:xfrm>
            <a:off x="304920" y="685800"/>
            <a:ext cx="8534160" cy="24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Comparative Embryolog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12880" indent="-33012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omparative embryology is the comparison of early stages of development among different organism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304920" y="685800"/>
            <a:ext cx="853416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30480"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any vertebrat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28800" indent="-558720">
              <a:spcBef>
                <a:spcPts val="56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Have common embryonic structur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511" name="Group 36"/>
          <p:cNvGrpSpPr/>
          <p:nvPr/>
        </p:nvGrpSpPr>
        <p:grpSpPr>
          <a:xfrm>
            <a:off x="615960" y="254160"/>
            <a:ext cx="8020080" cy="5707080"/>
            <a:chOff x="615960" y="254160"/>
            <a:chExt cx="8020080" cy="5707080"/>
          </a:xfrm>
        </p:grpSpPr>
        <p:sp>
          <p:nvSpPr>
            <p:cNvPr id="512" name="FlagCount" hidden="1"/>
            <p:cNvSpPr/>
            <p:nvPr/>
          </p:nvSpPr>
          <p:spPr>
            <a:xfrm>
              <a:off x="8255160" y="254160"/>
              <a:ext cx="380880" cy="31752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e8637">
                <a:alpha val="25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3" name="Picture 17" descr="_x001b_13_04bEmbryoHomology_UP.jpg                                    0050CFAB_x0003_203                            BE61E8D3:"/>
            <p:cNvPicPr/>
            <p:nvPr/>
          </p:nvPicPr>
          <p:blipFill>
            <a:blip r:embed="rId1"/>
            <a:stretch/>
          </p:blipFill>
          <p:spPr>
            <a:xfrm>
              <a:off x="615960" y="2405160"/>
              <a:ext cx="7959600" cy="322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Line 18"/>
            <p:cNvSpPr/>
            <p:nvPr/>
          </p:nvSpPr>
          <p:spPr>
            <a:xfrm flipV="1">
              <a:off x="2128680" y="4908600"/>
              <a:ext cx="1384560" cy="32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Line 19"/>
            <p:cNvSpPr/>
            <p:nvPr/>
          </p:nvSpPr>
          <p:spPr>
            <a:xfrm flipH="1">
              <a:off x="4403880" y="3917880"/>
              <a:ext cx="2388960" cy="10159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 Box 20"/>
            <p:cNvSpPr/>
            <p:nvPr/>
          </p:nvSpPr>
          <p:spPr>
            <a:xfrm>
              <a:off x="3491640" y="4768920"/>
              <a:ext cx="93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st-an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ai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21"/>
            <p:cNvSpPr/>
            <p:nvPr/>
          </p:nvSpPr>
          <p:spPr>
            <a:xfrm>
              <a:off x="1996920" y="3208320"/>
              <a:ext cx="1473480" cy="27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 Box 23"/>
            <p:cNvSpPr/>
            <p:nvPr/>
          </p:nvSpPr>
          <p:spPr>
            <a:xfrm>
              <a:off x="3485520" y="3359160"/>
              <a:ext cx="1082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harynge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uch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24"/>
            <p:cNvSpPr/>
            <p:nvPr/>
          </p:nvSpPr>
          <p:spPr>
            <a:xfrm flipH="1">
              <a:off x="4537080" y="3309840"/>
              <a:ext cx="2124000" cy="1922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25"/>
            <p:cNvSpPr/>
            <p:nvPr/>
          </p:nvSpPr>
          <p:spPr>
            <a:xfrm flipH="1">
              <a:off x="4557240" y="3422520"/>
              <a:ext cx="2325960" cy="810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Text Box 26"/>
            <p:cNvSpPr/>
            <p:nvPr/>
          </p:nvSpPr>
          <p:spPr>
            <a:xfrm>
              <a:off x="709560" y="5475240"/>
              <a:ext cx="1271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ick embry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 Box 27"/>
            <p:cNvSpPr/>
            <p:nvPr/>
          </p:nvSpPr>
          <p:spPr>
            <a:xfrm>
              <a:off x="4793040" y="5468760"/>
              <a:ext cx="139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uman embry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 Box 28"/>
            <p:cNvSpPr/>
            <p:nvPr/>
          </p:nvSpPr>
          <p:spPr>
            <a:xfrm>
              <a:off x="3473640" y="568476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3.4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22"/>
            <p:cNvSpPr/>
            <p:nvPr/>
          </p:nvSpPr>
          <p:spPr>
            <a:xfrm>
              <a:off x="2071800" y="3041640"/>
              <a:ext cx="1401480" cy="43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33"/>
            <p:cNvSpPr/>
            <p:nvPr/>
          </p:nvSpPr>
          <p:spPr>
            <a:xfrm flipH="1">
              <a:off x="4537080" y="3305160"/>
              <a:ext cx="2124000" cy="192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34"/>
            <p:cNvSpPr/>
            <p:nvPr/>
          </p:nvSpPr>
          <p:spPr>
            <a:xfrm flipH="1">
              <a:off x="4552920" y="3417840"/>
              <a:ext cx="2325600" cy="81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35"/>
            <p:cNvSpPr/>
            <p:nvPr/>
          </p:nvSpPr>
          <p:spPr>
            <a:xfrm flipH="1">
              <a:off x="4412880" y="3913200"/>
              <a:ext cx="2389320" cy="1015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 txBox="1"/>
          <p:nvPr/>
        </p:nvSpPr>
        <p:spPr>
          <a:xfrm>
            <a:off x="304920" y="685800"/>
            <a:ext cx="8534160" cy="24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Molecular Biolog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omparisons of DNA and amino acid sequences between different organism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Reveal evolutionary relationship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Group 16"/>
          <p:cNvGrpSpPr/>
          <p:nvPr/>
        </p:nvGrpSpPr>
        <p:grpSpPr>
          <a:xfrm>
            <a:off x="2419200" y="2238480"/>
            <a:ext cx="4559040" cy="4198320"/>
            <a:chOff x="2419200" y="2238480"/>
            <a:chExt cx="4559040" cy="4198320"/>
          </a:xfrm>
        </p:grpSpPr>
        <p:pic>
          <p:nvPicPr>
            <p:cNvPr id="531" name="Picture 12" descr="_x001a_13_04ProteinHomology_T.jpg                                     0050CFAB_x0003_203                            BE61E8D3:"/>
            <p:cNvPicPr/>
            <p:nvPr/>
          </p:nvPicPr>
          <p:blipFill>
            <a:blip r:embed="rId1"/>
            <a:stretch/>
          </p:blipFill>
          <p:spPr>
            <a:xfrm>
              <a:off x="3513240" y="2238480"/>
              <a:ext cx="3465000" cy="41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Text Box 13"/>
            <p:cNvSpPr/>
            <p:nvPr/>
          </p:nvSpPr>
          <p:spPr>
            <a:xfrm>
              <a:off x="2419200" y="6059160"/>
              <a:ext cx="92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able 13.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ONNE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3.5 Scientists can observe natural selection in ac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amouflage adaptations that evolved in different environments are examples of the results of natural selection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" name="Group 11"/>
          <p:cNvGrpSpPr/>
          <p:nvPr/>
        </p:nvGrpSpPr>
        <p:grpSpPr>
          <a:xfrm>
            <a:off x="4721400" y="3892680"/>
            <a:ext cx="3278160" cy="2563920"/>
            <a:chOff x="4721400" y="3892680"/>
            <a:chExt cx="3278160" cy="2563920"/>
          </a:xfrm>
        </p:grpSpPr>
        <p:grpSp>
          <p:nvGrpSpPr>
            <p:cNvPr id="537" name="Group 5"/>
            <p:cNvGrpSpPr/>
            <p:nvPr/>
          </p:nvGrpSpPr>
          <p:grpSpPr>
            <a:xfrm>
              <a:off x="5749920" y="3892680"/>
              <a:ext cx="2249640" cy="2560680"/>
              <a:chOff x="5749920" y="3892680"/>
              <a:chExt cx="2249640" cy="2560680"/>
            </a:xfrm>
          </p:grpSpPr>
          <p:pic>
            <p:nvPicPr>
              <p:cNvPr id="538" name="Picture 6" descr="_x001e_13_05aCamouflageMimicry_UP.jpg                                 0050CFAB_x0003_203                            BE61E8D3:"/>
              <p:cNvPicPr/>
              <p:nvPr/>
            </p:nvPicPr>
            <p:blipFill>
              <a:blip r:embed="rId1"/>
              <a:stretch/>
            </p:blipFill>
            <p:spPr>
              <a:xfrm>
                <a:off x="5749920" y="3892680"/>
                <a:ext cx="2249640" cy="256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9" name="Text Box 7"/>
              <p:cNvSpPr/>
              <p:nvPr/>
            </p:nvSpPr>
            <p:spPr>
              <a:xfrm>
                <a:off x="5819040" y="3993840"/>
                <a:ext cx="944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A flower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mantid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n Malaysi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Text Box 8"/>
              <p:cNvSpPr/>
              <p:nvPr/>
            </p:nvSpPr>
            <p:spPr>
              <a:xfrm>
                <a:off x="5819400" y="5159520"/>
                <a:ext cx="2024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A leaf mantid in Costa Ric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1" name="Text Box 9"/>
            <p:cNvSpPr/>
            <p:nvPr/>
          </p:nvSpPr>
          <p:spPr>
            <a:xfrm>
              <a:off x="4721400" y="618012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3.5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304920" y="181080"/>
            <a:ext cx="8534160" cy="224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evelopment of pesticide resistance in insect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Is another example of natural selection in acti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ese two examples illustrate that natural selection is an editing process, not a creative mechanism. They also show that natural selection is regional, timely, and can occur rapidly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Group 16"/>
          <p:cNvGrpSpPr/>
          <p:nvPr/>
        </p:nvGrpSpPr>
        <p:grpSpPr>
          <a:xfrm>
            <a:off x="1847880" y="2530440"/>
            <a:ext cx="5924520" cy="3735720"/>
            <a:chOff x="1847880" y="2530440"/>
            <a:chExt cx="5924520" cy="3735720"/>
          </a:xfrm>
        </p:grpSpPr>
        <p:pic>
          <p:nvPicPr>
            <p:cNvPr id="545" name="Picture 6" descr="_x001f_13_05bPesticidResistanc_CNL.jpg                                0050CFAB_x0003_203                            BE61E8D3:"/>
            <p:cNvPicPr/>
            <p:nvPr/>
          </p:nvPicPr>
          <p:blipFill>
            <a:blip r:embed="rId1"/>
            <a:stretch/>
          </p:blipFill>
          <p:spPr>
            <a:xfrm>
              <a:off x="3632040" y="2530440"/>
              <a:ext cx="4140360" cy="365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Text Box 7"/>
            <p:cNvSpPr/>
            <p:nvPr/>
          </p:nvSpPr>
          <p:spPr>
            <a:xfrm>
              <a:off x="6317640" y="4105080"/>
              <a:ext cx="1329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esticide applic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Text Box 8"/>
            <p:cNvSpPr/>
            <p:nvPr/>
          </p:nvSpPr>
          <p:spPr>
            <a:xfrm>
              <a:off x="5656320" y="4781520"/>
              <a:ext cx="645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urviv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 Box 9"/>
            <p:cNvSpPr/>
            <p:nvPr/>
          </p:nvSpPr>
          <p:spPr>
            <a:xfrm>
              <a:off x="3163320" y="3828960"/>
              <a:ext cx="1514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romosome with gene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erring resistance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o pestici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10"/>
            <p:cNvSpPr/>
            <p:nvPr/>
          </p:nvSpPr>
          <p:spPr>
            <a:xfrm flipH="1">
              <a:off x="3930120" y="3811680"/>
              <a:ext cx="2103480" cy="47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Text Box 11"/>
            <p:cNvSpPr/>
            <p:nvPr/>
          </p:nvSpPr>
          <p:spPr>
            <a:xfrm>
              <a:off x="3165480" y="4924440"/>
              <a:ext cx="1368000" cy="13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dditional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pplications of the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me pesticide will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e less effective, and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he frequency of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sistant insects in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he population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ill gro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12"/>
            <p:cNvSpPr/>
            <p:nvPr/>
          </p:nvSpPr>
          <p:spPr>
            <a:xfrm>
              <a:off x="3801960" y="6138720"/>
              <a:ext cx="554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Text Box 14"/>
            <p:cNvSpPr/>
            <p:nvPr/>
          </p:nvSpPr>
          <p:spPr>
            <a:xfrm>
              <a:off x="1847880" y="598968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3.5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04920" y="685800"/>
            <a:ext cx="8534160" cy="24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own, Fool, or Simply Well Adapted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5480" indent="-3556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blue-footed booby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03240" indent="-5457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Is a type of bird living in the Galápagos Island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9" descr="_x001e_13_UN254BlueFootedBooby_UP.jpg                                 0050CFAB_x0003_203                            BE77EE71:"/>
          <p:cNvPicPr/>
          <p:nvPr/>
        </p:nvPicPr>
        <p:blipFill>
          <a:blip r:embed="rId1"/>
          <a:stretch/>
        </p:blipFill>
        <p:spPr>
          <a:xfrm>
            <a:off x="2733840" y="3403440"/>
            <a:ext cx="3589200" cy="29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9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 WHAT SENSE IS NATURAL SELECTION MORE OF AN EDITING PROCESS THAN A CREATIVE PROCESS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56840" y="4066920"/>
            <a:ext cx="7467480" cy="24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POPULATION GENETICS AND THE MODERN SYNTHESIS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04920" y="1359000"/>
            <a:ext cx="853416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3.6 Populations are the units of evolu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45072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en-US" sz="2100" spc="-1" strike="noStrike">
                <a:solidFill>
                  <a:srgbClr val="e75c01"/>
                </a:solidFill>
                <a:latin typeface="Century Schoolbook"/>
              </a:rPr>
              <a:t>Populat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Is a group of individuals of the same species living in the same place at the same tim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45072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e75c01"/>
                </a:solidFill>
                <a:latin typeface="Century Schoolbook"/>
              </a:rPr>
              <a:t>	</a:t>
            </a:r>
            <a:r>
              <a:rPr b="1" i="1" lang="en-US" sz="2100" spc="-1" strike="noStrike">
                <a:solidFill>
                  <a:srgbClr val="e75c01"/>
                </a:solidFill>
                <a:latin typeface="Century Schoolbook"/>
              </a:rPr>
              <a:t>Species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s a group of population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Whose individuals can interbreed and produce fertile offspring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 population is the smallest unit that can evolv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2087640" indent="-533520"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e increase of resistant insects in areas sprayed with pesticides is a good example of a population evoloving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2087640" indent="-533520"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Natural selection favored genes that were resistan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362320" indent="-533520">
              <a:spcBef>
                <a:spcPts val="400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These insects left more offspring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362320" indent="-533520">
              <a:spcBef>
                <a:spcPts val="400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The population changed or evolved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 txBox="1"/>
          <p:nvPr/>
        </p:nvSpPr>
        <p:spPr>
          <a:xfrm>
            <a:off x="304920" y="685440"/>
            <a:ext cx="8534160" cy="562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Population genetics (1920’s) – combined the teachings of Darwin and Mende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tudies how populations change genetically over tim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modern synthesis (1940’s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onnects Darwin’s theory with population genetic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i.e. populations are the unit of evolution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Key Features of Populations: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Populations may be isolated from others of the same species, with little interbreeding and thus little exchange of genes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Islands, mountain rang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304920" y="685800"/>
            <a:ext cx="8534160" cy="35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 gene pool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Is the total collection of genes in a population at any one tim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lleles in all the individuals within a population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icroevolut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Is a change in the relative frequencies of alleles in a gene poo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i.e. alleles for pesticide resistanc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Y CAN’T AN INDIVIDUAL EVOLVE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 txBox="1"/>
          <p:nvPr/>
        </p:nvSpPr>
        <p:spPr>
          <a:xfrm>
            <a:off x="304920" y="685800"/>
            <a:ext cx="853416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3.7 The gene pool of a nonevolving population remains constant over the generatio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n a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Century Schoolbook"/>
              </a:rPr>
              <a:t>nonevolving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populat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e shuffling of alleles that accompanies sexual reproduction does not alter the genetic makeup of the population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No matter how many times alleles are shuffled , the frequency of each allele is the gene pool remains the same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Group 51"/>
          <p:cNvGrpSpPr/>
          <p:nvPr/>
        </p:nvGrpSpPr>
        <p:grpSpPr>
          <a:xfrm>
            <a:off x="2854440" y="4029120"/>
            <a:ext cx="3456360" cy="2406960"/>
            <a:chOff x="2854440" y="4029120"/>
            <a:chExt cx="3456360" cy="2406960"/>
          </a:xfrm>
        </p:grpSpPr>
        <p:pic>
          <p:nvPicPr>
            <p:cNvPr id="567" name="Picture 41" descr="_x001d_13_07aImaginargyBoobies_U.jpg                                  0050CFAB_x0003_203                            BE61E8D3:"/>
            <p:cNvPicPr/>
            <p:nvPr/>
          </p:nvPicPr>
          <p:blipFill>
            <a:blip r:embed="rId1"/>
            <a:stretch/>
          </p:blipFill>
          <p:spPr>
            <a:xfrm>
              <a:off x="4001760" y="4029120"/>
              <a:ext cx="2292120" cy="206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8" name="Text Box 42"/>
            <p:cNvSpPr/>
            <p:nvPr/>
          </p:nvSpPr>
          <p:spPr>
            <a:xfrm>
              <a:off x="4107600" y="6156360"/>
              <a:ext cx="78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ebb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 Box 43"/>
            <p:cNvSpPr/>
            <p:nvPr/>
          </p:nvSpPr>
          <p:spPr>
            <a:xfrm>
              <a:off x="5322240" y="6156360"/>
              <a:ext cx="98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 webb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0" name="Group 47"/>
            <p:cNvGrpSpPr/>
            <p:nvPr/>
          </p:nvGrpSpPr>
          <p:grpSpPr>
            <a:xfrm>
              <a:off x="4478040" y="5680080"/>
              <a:ext cx="1583280" cy="495360"/>
              <a:chOff x="4478040" y="5680080"/>
              <a:chExt cx="1583280" cy="495360"/>
            </a:xfrm>
          </p:grpSpPr>
          <p:sp>
            <p:nvSpPr>
              <p:cNvPr id="571" name="Line 44"/>
              <p:cNvSpPr/>
              <p:nvPr/>
            </p:nvSpPr>
            <p:spPr>
              <a:xfrm flipH="1">
                <a:off x="4478040" y="5680080"/>
                <a:ext cx="288720" cy="49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Line 45"/>
              <p:cNvSpPr/>
              <p:nvPr/>
            </p:nvSpPr>
            <p:spPr>
              <a:xfrm flipH="1">
                <a:off x="5788800" y="5746680"/>
                <a:ext cx="272520" cy="426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Text Box 49"/>
            <p:cNvSpPr/>
            <p:nvPr/>
          </p:nvSpPr>
          <p:spPr>
            <a:xfrm>
              <a:off x="2854440" y="615960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3.7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 txBox="1"/>
          <p:nvPr/>
        </p:nvSpPr>
        <p:spPr>
          <a:xfrm>
            <a:off x="304920" y="685440"/>
            <a:ext cx="8534160" cy="20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4928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Hardy-Weinberg equilibrium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96920" indent="-533520">
              <a:spcBef>
                <a:spcPts val="64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tates that the shuffling of genes during sexual reproduction does not alter the proportions of different alleles in a gene poo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Group 51"/>
          <p:cNvGrpSpPr/>
          <p:nvPr/>
        </p:nvGrpSpPr>
        <p:grpSpPr>
          <a:xfrm>
            <a:off x="1530720" y="2719440"/>
            <a:ext cx="6414840" cy="3706920"/>
            <a:chOff x="1530720" y="2719440"/>
            <a:chExt cx="6414840" cy="3706920"/>
          </a:xfrm>
        </p:grpSpPr>
        <p:pic>
          <p:nvPicPr>
            <p:cNvPr id="577" name="Picture 6" descr="_x0019_13_07bBoobyGenePool_U.jpg                                      0050CFAB_x0003_203                            BE61E8D3:"/>
            <p:cNvPicPr/>
            <p:nvPr/>
          </p:nvPicPr>
          <p:blipFill>
            <a:blip r:embed="rId1"/>
            <a:stretch/>
          </p:blipFill>
          <p:spPr>
            <a:xfrm>
              <a:off x="2633760" y="2719440"/>
              <a:ext cx="5311800" cy="370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Text Box 7"/>
            <p:cNvSpPr/>
            <p:nvPr/>
          </p:nvSpPr>
          <p:spPr>
            <a:xfrm>
              <a:off x="2850120" y="3108240"/>
              <a:ext cx="848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henotyp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Text Box 8"/>
            <p:cNvSpPr/>
            <p:nvPr/>
          </p:nvSpPr>
          <p:spPr>
            <a:xfrm>
              <a:off x="2847960" y="3681360"/>
              <a:ext cx="793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notyp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Text Box 9"/>
            <p:cNvSpPr/>
            <p:nvPr/>
          </p:nvSpPr>
          <p:spPr>
            <a:xfrm>
              <a:off x="4621680" y="3681360"/>
              <a:ext cx="418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W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Text Box 10"/>
            <p:cNvSpPr/>
            <p:nvPr/>
          </p:nvSpPr>
          <p:spPr>
            <a:xfrm>
              <a:off x="5748120" y="368136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W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Text Box 11"/>
            <p:cNvSpPr/>
            <p:nvPr/>
          </p:nvSpPr>
          <p:spPr>
            <a:xfrm>
              <a:off x="6849000" y="3684600"/>
              <a:ext cx="363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w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Text Box 12"/>
            <p:cNvSpPr/>
            <p:nvPr/>
          </p:nvSpPr>
          <p:spPr>
            <a:xfrm>
              <a:off x="2852640" y="3987720"/>
              <a:ext cx="1239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umber of animals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total </a:t>
              </a: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500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13"/>
            <p:cNvSpPr/>
            <p:nvPr/>
          </p:nvSpPr>
          <p:spPr>
            <a:xfrm>
              <a:off x="4563720" y="398772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Text Box 14"/>
            <p:cNvSpPr/>
            <p:nvPr/>
          </p:nvSpPr>
          <p:spPr>
            <a:xfrm>
              <a:off x="5708520" y="398772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Text Box 15"/>
            <p:cNvSpPr/>
            <p:nvPr/>
          </p:nvSpPr>
          <p:spPr>
            <a:xfrm>
              <a:off x="6848280" y="398772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Line 17"/>
            <p:cNvSpPr/>
            <p:nvPr/>
          </p:nvSpPr>
          <p:spPr>
            <a:xfrm>
              <a:off x="4524480" y="4573440"/>
              <a:ext cx="20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Rectangle 18"/>
            <p:cNvSpPr/>
            <p:nvPr/>
          </p:nvSpPr>
          <p:spPr>
            <a:xfrm>
              <a:off x="4434840" y="4392720"/>
              <a:ext cx="3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2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Text Box 19"/>
            <p:cNvSpPr/>
            <p:nvPr/>
          </p:nvSpPr>
          <p:spPr>
            <a:xfrm>
              <a:off x="2846520" y="4422600"/>
              <a:ext cx="141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notype frequenci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Text Box 20"/>
            <p:cNvSpPr/>
            <p:nvPr/>
          </p:nvSpPr>
          <p:spPr>
            <a:xfrm>
              <a:off x="4691520" y="4432320"/>
              <a:ext cx="56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6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22"/>
            <p:cNvSpPr/>
            <p:nvPr/>
          </p:nvSpPr>
          <p:spPr>
            <a:xfrm>
              <a:off x="5683320" y="4572000"/>
              <a:ext cx="22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Rectangle 23"/>
            <p:cNvSpPr/>
            <p:nvPr/>
          </p:nvSpPr>
          <p:spPr>
            <a:xfrm>
              <a:off x="5581800" y="4365720"/>
              <a:ext cx="414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Text Box 24"/>
            <p:cNvSpPr/>
            <p:nvPr/>
          </p:nvSpPr>
          <p:spPr>
            <a:xfrm>
              <a:off x="5853600" y="4430880"/>
              <a:ext cx="56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26"/>
            <p:cNvSpPr/>
            <p:nvPr/>
          </p:nvSpPr>
          <p:spPr>
            <a:xfrm>
              <a:off x="6823080" y="4572000"/>
              <a:ext cx="24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Rectangle 27"/>
            <p:cNvSpPr/>
            <p:nvPr/>
          </p:nvSpPr>
          <p:spPr>
            <a:xfrm>
              <a:off x="6739200" y="4365720"/>
              <a:ext cx="414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Text Box 28"/>
            <p:cNvSpPr/>
            <p:nvPr/>
          </p:nvSpPr>
          <p:spPr>
            <a:xfrm>
              <a:off x="7015320" y="4430880"/>
              <a:ext cx="56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Text Box 29"/>
            <p:cNvSpPr/>
            <p:nvPr/>
          </p:nvSpPr>
          <p:spPr>
            <a:xfrm>
              <a:off x="2851200" y="5000760"/>
              <a:ext cx="1162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umber of alleles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 gene pool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total </a:t>
              </a: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1,000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Text Box 30"/>
            <p:cNvSpPr/>
            <p:nvPr/>
          </p:nvSpPr>
          <p:spPr>
            <a:xfrm>
              <a:off x="2844000" y="5864400"/>
              <a:ext cx="1175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llele frequenci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Line 31"/>
            <p:cNvSpPr/>
            <p:nvPr/>
          </p:nvSpPr>
          <p:spPr>
            <a:xfrm>
              <a:off x="4743360" y="6000840"/>
              <a:ext cx="26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Rectangle 32"/>
            <p:cNvSpPr/>
            <p:nvPr/>
          </p:nvSpPr>
          <p:spPr>
            <a:xfrm>
              <a:off x="4634280" y="5821200"/>
              <a:ext cx="4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,0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Text Box 33"/>
            <p:cNvSpPr/>
            <p:nvPr/>
          </p:nvSpPr>
          <p:spPr>
            <a:xfrm>
              <a:off x="4948200" y="5859360"/>
              <a:ext cx="64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8 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Text Box 36"/>
            <p:cNvSpPr/>
            <p:nvPr/>
          </p:nvSpPr>
          <p:spPr>
            <a:xfrm>
              <a:off x="6501600" y="5859360"/>
              <a:ext cx="617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2 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Text Box 37"/>
            <p:cNvSpPr/>
            <p:nvPr/>
          </p:nvSpPr>
          <p:spPr>
            <a:xfrm>
              <a:off x="4496400" y="5016600"/>
              <a:ext cx="54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40 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Text Box 38"/>
            <p:cNvSpPr/>
            <p:nvPr/>
          </p:nvSpPr>
          <p:spPr>
            <a:xfrm>
              <a:off x="5392800" y="5018040"/>
              <a:ext cx="106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60 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W  </a:t>
              </a: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60 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Text Box 39"/>
            <p:cNvSpPr/>
            <p:nvPr/>
          </p:nvSpPr>
          <p:spPr>
            <a:xfrm>
              <a:off x="6811920" y="50259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 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AutoShape 40"/>
            <p:cNvSpPr/>
            <p:nvPr/>
          </p:nvSpPr>
          <p:spPr>
            <a:xfrm rot="5400000">
              <a:off x="5889600" y="4671720"/>
              <a:ext cx="100080" cy="640080"/>
            </a:xfrm>
            <a:custGeom>
              <a:avLst/>
              <a:gdLst>
                <a:gd name="textAreaLeft" fmla="*/ 64080 w 100080"/>
                <a:gd name="textAreaRight" fmla="*/ 100440 w 100080"/>
                <a:gd name="textAreaTop" fmla="*/ 16560 h 640080"/>
                <a:gd name="textAreaBottom" fmla="*/ 623520 h 64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Text Box 46"/>
            <p:cNvSpPr/>
            <p:nvPr/>
          </p:nvSpPr>
          <p:spPr>
            <a:xfrm>
              <a:off x="1530720" y="609120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3.7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35"/>
            <p:cNvSpPr/>
            <p:nvPr/>
          </p:nvSpPr>
          <p:spPr>
            <a:xfrm>
              <a:off x="6161400" y="5827680"/>
              <a:ext cx="4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,0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Line 34"/>
            <p:cNvSpPr/>
            <p:nvPr/>
          </p:nvSpPr>
          <p:spPr>
            <a:xfrm>
              <a:off x="6256440" y="6008760"/>
              <a:ext cx="29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" name="TextBox 37"/>
          <p:cNvSpPr/>
          <p:nvPr/>
        </p:nvSpPr>
        <p:spPr>
          <a:xfrm>
            <a:off x="157320" y="2670120"/>
            <a:ext cx="2585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tic make up of the original popu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genotype frequency we can calculate the frequency of each allele in this popu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 txBox="1"/>
          <p:nvPr/>
        </p:nvSpPr>
        <p:spPr>
          <a:xfrm>
            <a:off x="304920" y="685800"/>
            <a:ext cx="8534160" cy="16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633240" indent="-331200"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e can follow alleles in a populat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796040" indent="-527760">
              <a:spcBef>
                <a:spcPts val="56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o observe if Hardy-Weinberg equilibrium exist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796040" indent="-527760">
              <a:spcBef>
                <a:spcPts val="814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P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 + 2pq + q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 = allows us to determine the frequency of genotypes in a gene poo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3" name="Group 33"/>
          <p:cNvGrpSpPr/>
          <p:nvPr/>
        </p:nvGrpSpPr>
        <p:grpSpPr>
          <a:xfrm>
            <a:off x="1546560" y="2301840"/>
            <a:ext cx="5843160" cy="4132440"/>
            <a:chOff x="1546560" y="2301840"/>
            <a:chExt cx="5843160" cy="4132440"/>
          </a:xfrm>
        </p:grpSpPr>
        <p:pic>
          <p:nvPicPr>
            <p:cNvPr id="614" name="Picture 8" descr="_x001c_13_07cNewBoobyGenePool_U.jpg                                   0050CFAB_x0003_203                            BE61E8D3:"/>
            <p:cNvPicPr/>
            <p:nvPr/>
          </p:nvPicPr>
          <p:blipFill>
            <a:blip r:embed="rId1"/>
            <a:stretch/>
          </p:blipFill>
          <p:spPr>
            <a:xfrm>
              <a:off x="2617920" y="2301840"/>
              <a:ext cx="4771800" cy="413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Text Box 9"/>
            <p:cNvSpPr/>
            <p:nvPr/>
          </p:nvSpPr>
          <p:spPr>
            <a:xfrm>
              <a:off x="2823480" y="2517840"/>
              <a:ext cx="1169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combination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f alleles from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gene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Text Box 10"/>
            <p:cNvSpPr/>
            <p:nvPr/>
          </p:nvSpPr>
          <p:spPr>
            <a:xfrm>
              <a:off x="3635280" y="4122720"/>
              <a:ext cx="546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G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Text Box 11"/>
            <p:cNvSpPr/>
            <p:nvPr/>
          </p:nvSpPr>
          <p:spPr>
            <a:xfrm>
              <a:off x="2816280" y="5635800"/>
              <a:ext cx="141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notype frequenci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 Box 12"/>
            <p:cNvSpPr/>
            <p:nvPr/>
          </p:nvSpPr>
          <p:spPr>
            <a:xfrm>
              <a:off x="2823480" y="5945040"/>
              <a:ext cx="1175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llele frequenci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Text Box 13"/>
            <p:cNvSpPr/>
            <p:nvPr/>
          </p:nvSpPr>
          <p:spPr>
            <a:xfrm>
              <a:off x="4493880" y="5635800"/>
              <a:ext cx="698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64 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W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 Box 14"/>
            <p:cNvSpPr/>
            <p:nvPr/>
          </p:nvSpPr>
          <p:spPr>
            <a:xfrm>
              <a:off x="5298120" y="5635800"/>
              <a:ext cx="67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32 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W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Text Box 15"/>
            <p:cNvSpPr/>
            <p:nvPr/>
          </p:nvSpPr>
          <p:spPr>
            <a:xfrm>
              <a:off x="6093000" y="5624640"/>
              <a:ext cx="644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04 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w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Text Box 16"/>
            <p:cNvSpPr/>
            <p:nvPr/>
          </p:nvSpPr>
          <p:spPr>
            <a:xfrm>
              <a:off x="4935960" y="5950080"/>
              <a:ext cx="509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8 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Text Box 17"/>
            <p:cNvSpPr/>
            <p:nvPr/>
          </p:nvSpPr>
          <p:spPr>
            <a:xfrm>
              <a:off x="5850000" y="5942160"/>
              <a:ext cx="482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2 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Text Box 18"/>
            <p:cNvSpPr/>
            <p:nvPr/>
          </p:nvSpPr>
          <p:spPr>
            <a:xfrm>
              <a:off x="2824200" y="5378400"/>
              <a:ext cx="118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ext generation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Text Box 19"/>
            <p:cNvSpPr/>
            <p:nvPr/>
          </p:nvSpPr>
          <p:spPr>
            <a:xfrm>
              <a:off x="4070520" y="3629160"/>
              <a:ext cx="5965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W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gg</a:t>
              </a:r>
              <a:br>
                <a:rPr sz="1000"/>
              </a:b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0.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Text Box 20"/>
            <p:cNvSpPr/>
            <p:nvPr/>
          </p:nvSpPr>
          <p:spPr>
            <a:xfrm>
              <a:off x="4073760" y="4572000"/>
              <a:ext cx="5965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w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gg</a:t>
              </a:r>
              <a:br>
                <a:rPr sz="1000"/>
              </a:b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0.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Text Box 21"/>
            <p:cNvSpPr/>
            <p:nvPr/>
          </p:nvSpPr>
          <p:spPr>
            <a:xfrm>
              <a:off x="4958640" y="2919240"/>
              <a:ext cx="6868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W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perm</a:t>
              </a:r>
              <a:br>
                <a:rPr sz="1000"/>
              </a:b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0.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Text Box 22"/>
            <p:cNvSpPr/>
            <p:nvPr/>
          </p:nvSpPr>
          <p:spPr>
            <a:xfrm>
              <a:off x="5860080" y="2927520"/>
              <a:ext cx="6591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w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perm</a:t>
              </a:r>
              <a:br>
                <a:rPr sz="1000"/>
              </a:b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0.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Text Box 23"/>
            <p:cNvSpPr/>
            <p:nvPr/>
          </p:nvSpPr>
          <p:spPr>
            <a:xfrm>
              <a:off x="5430600" y="2735280"/>
              <a:ext cx="62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PER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Text Box 24"/>
            <p:cNvSpPr/>
            <p:nvPr/>
          </p:nvSpPr>
          <p:spPr>
            <a:xfrm>
              <a:off x="4866840" y="3301920"/>
              <a:ext cx="707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WW</a:t>
              </a:r>
              <a:br>
                <a:rPr sz="1000"/>
              </a:b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i="1" lang="en-US" sz="10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0.6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Text Box 25"/>
            <p:cNvSpPr/>
            <p:nvPr/>
          </p:nvSpPr>
          <p:spPr>
            <a:xfrm>
              <a:off x="5796000" y="3290760"/>
              <a:ext cx="736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Ww</a:t>
              </a:r>
              <a:br>
                <a:rPr sz="1000"/>
              </a:b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pq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0.1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Text Box 26"/>
            <p:cNvSpPr/>
            <p:nvPr/>
          </p:nvSpPr>
          <p:spPr>
            <a:xfrm>
              <a:off x="4851360" y="4251240"/>
              <a:ext cx="736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wW</a:t>
              </a:r>
              <a:br>
                <a:rPr sz="1000"/>
              </a:b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qp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0.1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Text Box 27"/>
            <p:cNvSpPr/>
            <p:nvPr/>
          </p:nvSpPr>
          <p:spPr>
            <a:xfrm>
              <a:off x="5809680" y="4238640"/>
              <a:ext cx="707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ww</a:t>
              </a:r>
              <a:br>
                <a:rPr sz="1000"/>
              </a:b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i="1" lang="en-US" sz="10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0.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Text Box 31"/>
            <p:cNvSpPr/>
            <p:nvPr/>
          </p:nvSpPr>
          <p:spPr>
            <a:xfrm>
              <a:off x="1546560" y="613080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3.7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 txBox="1"/>
          <p:nvPr/>
        </p:nvSpPr>
        <p:spPr>
          <a:xfrm>
            <a:off x="304920" y="685800"/>
            <a:ext cx="853416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For a population to be in Hardy-Weinberg equilibrium, it must satisfy </a:t>
            </a: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five main condition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e population is very larg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e population is isolated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Mutations do not alter the gene poo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Mating is random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ll individuals are equal in reproductive succes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ese 5 conditions are rarely met. In many populations the rate of evolution is so slow that the population appears close to equilibrium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409320" y="1587600"/>
            <a:ext cx="746748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reshman Biology Skip to 13.9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lide 40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04920" y="685440"/>
            <a:ext cx="84787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is type of bird possesses many specialized characteristics, called evolutionary adaptation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Evolutionary adaptations are inherited traits that enhance its ability to survive and reproduce in its particular environment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14" descr="_x001e_13_UN255BlueFootedBooby_UP.jpg                                 0050CFAB_x0003_203                            BE77EE71:"/>
          <p:cNvPicPr/>
          <p:nvPr/>
        </p:nvPicPr>
        <p:blipFill>
          <a:blip r:embed="rId1"/>
          <a:stretch/>
        </p:blipFill>
        <p:spPr>
          <a:xfrm>
            <a:off x="3551400" y="3162240"/>
            <a:ext cx="2006280" cy="32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ONNE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3.8 The Hardy-Weinberg equation is useful in public health scien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Public health scientists use the Hardy-Weinberg equation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o estimate frequencies of disease-causing alleles in the human populati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 txBox="1"/>
          <p:nvPr/>
        </p:nvSpPr>
        <p:spPr>
          <a:xfrm>
            <a:off x="304920" y="685800"/>
            <a:ext cx="8534160" cy="40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3.9 In addition to natural selection, genetic drift and gene flow can contribute to evolu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Genetic drift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Is a change in the gene pool of a population due to chanc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2087640" indent="-533520"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e smaller the population the more likely genetic drift will occur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an alter allele frequencies in a populati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Genetic drift tend to reduce genetic variation through the loss in allel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 txBox="1"/>
          <p:nvPr/>
        </p:nvSpPr>
        <p:spPr>
          <a:xfrm>
            <a:off x="304920" y="685800"/>
            <a:ext cx="853416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lvl="1" marL="377280" indent="-28116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Genetic drift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21240" indent="-44784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an cause the bottleneck effect or the founder effec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21240" indent="-44784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Bottleneck  effect is an event that drastically reduces the populati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21240" indent="-44784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ounder effect  caused by the colonization of new locations by smaller population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50920" indent="-447840"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e smaller the group the less likely the genetic makeup will represent the population they left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21240" indent="-44784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6" name="Group 14"/>
          <p:cNvGrpSpPr/>
          <p:nvPr/>
        </p:nvGrpSpPr>
        <p:grpSpPr>
          <a:xfrm>
            <a:off x="490680" y="3033720"/>
            <a:ext cx="8474040" cy="3606840"/>
            <a:chOff x="490680" y="3033720"/>
            <a:chExt cx="8474040" cy="3606840"/>
          </a:xfrm>
        </p:grpSpPr>
        <p:pic>
          <p:nvPicPr>
            <p:cNvPr id="647" name="Picture 5" descr="_x001c_13_09aBottleneckEffect_U.jpg                                   0050CFAB_x0003_203                            BE61E8D3:"/>
            <p:cNvPicPr/>
            <p:nvPr/>
          </p:nvPicPr>
          <p:blipFill>
            <a:blip r:embed="rId1"/>
            <a:stretch/>
          </p:blipFill>
          <p:spPr>
            <a:xfrm>
              <a:off x="490680" y="3033720"/>
              <a:ext cx="4341600" cy="32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8" name="Text Box 6"/>
            <p:cNvSpPr/>
            <p:nvPr/>
          </p:nvSpPr>
          <p:spPr>
            <a:xfrm>
              <a:off x="582840" y="5957640"/>
              <a:ext cx="761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riginal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opul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Text Box 7"/>
            <p:cNvSpPr/>
            <p:nvPr/>
          </p:nvSpPr>
          <p:spPr>
            <a:xfrm>
              <a:off x="2070000" y="5957640"/>
              <a:ext cx="9381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ottlenecking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v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 Box 8"/>
            <p:cNvSpPr/>
            <p:nvPr/>
          </p:nvSpPr>
          <p:spPr>
            <a:xfrm>
              <a:off x="3592800" y="5957640"/>
              <a:ext cx="761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urviving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opul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1" name="Picture 9" descr="_x001a_13_09bElephantSeals_UP.jpg                                     0050CFAB_x0003_203                            BE61E8D3:"/>
            <p:cNvPicPr/>
            <p:nvPr/>
          </p:nvPicPr>
          <p:blipFill>
            <a:blip r:embed="rId2"/>
            <a:stretch/>
          </p:blipFill>
          <p:spPr>
            <a:xfrm>
              <a:off x="4722840" y="3393720"/>
              <a:ext cx="424188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Text Box 11"/>
            <p:cNvSpPr/>
            <p:nvPr/>
          </p:nvSpPr>
          <p:spPr>
            <a:xfrm>
              <a:off x="1657800" y="636408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3.9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Text Box 12"/>
            <p:cNvSpPr/>
            <p:nvPr/>
          </p:nvSpPr>
          <p:spPr>
            <a:xfrm>
              <a:off x="6267600" y="635436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3.9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 txBox="1"/>
          <p:nvPr/>
        </p:nvSpPr>
        <p:spPr>
          <a:xfrm>
            <a:off x="304920" y="685800"/>
            <a:ext cx="8534160" cy="28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Gene flow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Is the movement of individuals or gametes (pollen grains) between population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2087640" indent="-533520"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Gene flow tends to reduce differences between population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an alter allele frequencies in a populati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 txBox="1"/>
          <p:nvPr/>
        </p:nvSpPr>
        <p:spPr>
          <a:xfrm>
            <a:off x="304920" y="685800"/>
            <a:ext cx="8534160" cy="28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Natural selection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Leads to differential reproductive success in a populati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an alter allele frequencies in a populati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LIST THREE CAUSES OF MICROEVOLUTION.</a:t>
            </a:r>
            <a:br>
              <a:rPr sz="3000"/>
            </a:b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ICH ONE WILL ADAPT A POPULATION TO ITS ENVIRONMENT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456840" y="2828520"/>
            <a:ext cx="7467480" cy="36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ONNE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3.10 Endangered species often have reduced vari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5480" indent="-34272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Low genetic variability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28800" indent="-5587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6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May reduce the capacity of endangered species to survive as humans continue to alter the environmen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3" name="Picture 5" descr="_x0013_13_10Cheetah_UP.jpg                                            0050CFAB_x0003_203                            BE61E8D3:"/>
          <p:cNvPicPr/>
          <p:nvPr/>
        </p:nvPicPr>
        <p:blipFill>
          <a:blip r:embed="rId1"/>
          <a:stretch/>
        </p:blipFill>
        <p:spPr>
          <a:xfrm>
            <a:off x="3073320" y="3989520"/>
            <a:ext cx="4527720" cy="2449440"/>
          </a:xfrm>
          <a:prstGeom prst="rect">
            <a:avLst/>
          </a:prstGeom>
          <a:ln w="0">
            <a:noFill/>
          </a:ln>
        </p:spPr>
      </p:pic>
      <p:sp>
        <p:nvSpPr>
          <p:cNvPr id="664" name="Text Box 6"/>
          <p:cNvSpPr/>
          <p:nvPr/>
        </p:nvSpPr>
        <p:spPr>
          <a:xfrm>
            <a:off x="1990440" y="612612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3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kip to 13.18 Natural Selection cannot fashion perfect organism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lide 59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VARIATION AND NATURAL SELE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3.11 Variation is extensive in most populatio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any populations exhibit polymorphism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Different forms of phenotypic characteristics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0" name="Group 7"/>
          <p:cNvGrpSpPr/>
          <p:nvPr/>
        </p:nvGrpSpPr>
        <p:grpSpPr>
          <a:xfrm>
            <a:off x="1247400" y="3071880"/>
            <a:ext cx="7028280" cy="3430440"/>
            <a:chOff x="1247400" y="3071880"/>
            <a:chExt cx="7028280" cy="3430440"/>
          </a:xfrm>
        </p:grpSpPr>
        <p:pic>
          <p:nvPicPr>
            <p:cNvPr id="671" name="Picture 5" descr="_x0018_13_11Polymorphism_UP.jpg                                       0050CFAB_x0003_203                            BE61E8D3:"/>
            <p:cNvPicPr/>
            <p:nvPr/>
          </p:nvPicPr>
          <p:blipFill>
            <a:blip r:embed="rId1"/>
            <a:stretch/>
          </p:blipFill>
          <p:spPr>
            <a:xfrm>
              <a:off x="2303640" y="3071880"/>
              <a:ext cx="5972040" cy="343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2" name="Text Box 6"/>
            <p:cNvSpPr/>
            <p:nvPr/>
          </p:nvSpPr>
          <p:spPr>
            <a:xfrm>
              <a:off x="1247400" y="6100920"/>
              <a:ext cx="107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3.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 txBox="1"/>
          <p:nvPr/>
        </p:nvSpPr>
        <p:spPr>
          <a:xfrm>
            <a:off x="304920" y="685800"/>
            <a:ext cx="8534160" cy="216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Populations may also exhibit geographic variat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Variation of an inherited characteristic along a geographic continuum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20480" y="-360"/>
            <a:ext cx="74674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WHAT ARE SOME OF THE CHARACTERISTICS THAT SHOW EVOLUTIONARY ADAPTATIONS FOR THE BLUE FOOTED BOOBY?</a:t>
            </a:r>
            <a:br>
              <a:rPr sz="2800"/>
            </a:b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888920"/>
            <a:ext cx="746748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blue-footed booby ha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normous webbed feet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n oil producing gland that keeps the booby afloat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 nostril that can close under water that prevents water from entering the lung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 gland that secrets salt from consumed sea water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nd a torpedo-like body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ll adaptations that make life on the sea feasible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 txBox="1"/>
          <p:nvPr/>
        </p:nvSpPr>
        <p:spPr>
          <a:xfrm>
            <a:off x="304920" y="685800"/>
            <a:ext cx="8534160" cy="29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3.12 Mutation and sexual recombination generate vari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utations, or changes in the nucleotide sequence of DN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an create new allel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 txBox="1"/>
          <p:nvPr/>
        </p:nvSpPr>
        <p:spPr>
          <a:xfrm>
            <a:off x="304920" y="685800"/>
            <a:ext cx="853416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4928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exual recombinat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96920" indent="-5335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Generates variation by shuffling alleles during meiosi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9" name="Group 31"/>
          <p:cNvGrpSpPr/>
          <p:nvPr/>
        </p:nvGrpSpPr>
        <p:grpSpPr>
          <a:xfrm>
            <a:off x="2052360" y="2470320"/>
            <a:ext cx="4977000" cy="3816360"/>
            <a:chOff x="2052360" y="2470320"/>
            <a:chExt cx="4977000" cy="3816360"/>
          </a:xfrm>
        </p:grpSpPr>
        <p:pic>
          <p:nvPicPr>
            <p:cNvPr id="680" name="Picture 5" descr="_x001e_13_12SexualRecombination_U.jpg                                 0050CFAB_x0003_203                            BE61E8D3:"/>
            <p:cNvPicPr/>
            <p:nvPr/>
          </p:nvPicPr>
          <p:blipFill>
            <a:blip r:embed="rId1"/>
            <a:stretch/>
          </p:blipFill>
          <p:spPr>
            <a:xfrm>
              <a:off x="4067280" y="2470320"/>
              <a:ext cx="2962080" cy="381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1" name="Text Box 6"/>
            <p:cNvSpPr/>
            <p:nvPr/>
          </p:nvSpPr>
          <p:spPr>
            <a:xfrm>
              <a:off x="4381200" y="2801880"/>
              <a:ext cx="31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Text Box 7"/>
            <p:cNvSpPr/>
            <p:nvPr/>
          </p:nvSpPr>
          <p:spPr>
            <a:xfrm>
              <a:off x="5717880" y="2814480"/>
              <a:ext cx="31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Text Box 8"/>
            <p:cNvSpPr/>
            <p:nvPr/>
          </p:nvSpPr>
          <p:spPr>
            <a:xfrm>
              <a:off x="4854240" y="2801880"/>
              <a:ext cx="31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Text Box 9"/>
            <p:cNvSpPr/>
            <p:nvPr/>
          </p:nvSpPr>
          <p:spPr>
            <a:xfrm>
              <a:off x="6181560" y="2814480"/>
              <a:ext cx="31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Text Box 10"/>
            <p:cNvSpPr/>
            <p:nvPr/>
          </p:nvSpPr>
          <p:spPr>
            <a:xfrm>
              <a:off x="4243320" y="4221000"/>
              <a:ext cx="31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Text Box 11"/>
            <p:cNvSpPr/>
            <p:nvPr/>
          </p:nvSpPr>
          <p:spPr>
            <a:xfrm>
              <a:off x="4379760" y="5560920"/>
              <a:ext cx="31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Text Box 12"/>
            <p:cNvSpPr/>
            <p:nvPr/>
          </p:nvSpPr>
          <p:spPr>
            <a:xfrm>
              <a:off x="5286240" y="4218120"/>
              <a:ext cx="31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Text Box 13"/>
            <p:cNvSpPr/>
            <p:nvPr/>
          </p:nvSpPr>
          <p:spPr>
            <a:xfrm>
              <a:off x="6541920" y="4221000"/>
              <a:ext cx="31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Text Box 14"/>
            <p:cNvSpPr/>
            <p:nvPr/>
          </p:nvSpPr>
          <p:spPr>
            <a:xfrm>
              <a:off x="4867200" y="5548320"/>
              <a:ext cx="31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Text Box 15"/>
            <p:cNvSpPr/>
            <p:nvPr/>
          </p:nvSpPr>
          <p:spPr>
            <a:xfrm>
              <a:off x="5802120" y="5586480"/>
              <a:ext cx="31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Text Box 16"/>
            <p:cNvSpPr/>
            <p:nvPr/>
          </p:nvSpPr>
          <p:spPr>
            <a:xfrm>
              <a:off x="6289560" y="5586480"/>
              <a:ext cx="31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Text Box 17"/>
            <p:cNvSpPr/>
            <p:nvPr/>
          </p:nvSpPr>
          <p:spPr>
            <a:xfrm>
              <a:off x="5232240" y="582300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Text Box 18"/>
            <p:cNvSpPr/>
            <p:nvPr/>
          </p:nvSpPr>
          <p:spPr>
            <a:xfrm>
              <a:off x="5257440" y="2860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Text Box 19"/>
            <p:cNvSpPr/>
            <p:nvPr/>
          </p:nvSpPr>
          <p:spPr>
            <a:xfrm>
              <a:off x="3258720" y="2844720"/>
              <a:ext cx="616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Text Box 20"/>
            <p:cNvSpPr/>
            <p:nvPr/>
          </p:nvSpPr>
          <p:spPr>
            <a:xfrm>
              <a:off x="3260160" y="3454560"/>
              <a:ext cx="609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ios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Text Box 21"/>
            <p:cNvSpPr/>
            <p:nvPr/>
          </p:nvSpPr>
          <p:spPr>
            <a:xfrm>
              <a:off x="3258720" y="4260960"/>
              <a:ext cx="694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amet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Text Box 22"/>
            <p:cNvSpPr/>
            <p:nvPr/>
          </p:nvSpPr>
          <p:spPr>
            <a:xfrm>
              <a:off x="3255840" y="5033880"/>
              <a:ext cx="825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ertiliz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Text Box 23"/>
            <p:cNvSpPr/>
            <p:nvPr/>
          </p:nvSpPr>
          <p:spPr>
            <a:xfrm>
              <a:off x="3254760" y="5575320"/>
              <a:ext cx="92448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ffspring,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ith new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mbinations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f allel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Text Box 28"/>
            <p:cNvSpPr/>
            <p:nvPr/>
          </p:nvSpPr>
          <p:spPr>
            <a:xfrm>
              <a:off x="2052360" y="5999040"/>
              <a:ext cx="107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3.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0" name="Picture 11" descr="_x0018_13_13Tuberculosis_UP.jpg                                       0050CFAB_x0003_203                            BE723100:"/>
          <p:cNvPicPr/>
          <p:nvPr/>
        </p:nvPicPr>
        <p:blipFill>
          <a:blip r:embed="rId1"/>
          <a:stretch/>
        </p:blipFill>
        <p:spPr>
          <a:xfrm>
            <a:off x="5191200" y="3606840"/>
            <a:ext cx="2787480" cy="2552760"/>
          </a:xfrm>
          <a:prstGeom prst="rect">
            <a:avLst/>
          </a:prstGeom>
          <a:ln w="0">
            <a:noFill/>
          </a:ln>
        </p:spPr>
      </p:pic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ONNE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3.13 The evolution of antibiotic resistance in bacteria is a serious public health concer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excessive use of antibiotics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Is leading to the evolution of antibiotic-resistant bacteri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7"/>
          <p:cNvSpPr/>
          <p:nvPr/>
        </p:nvSpPr>
        <p:spPr>
          <a:xfrm flipH="1" rot="16200000">
            <a:off x="7177680" y="4974480"/>
            <a:ext cx="100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lorized SEM 5,600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9"/>
          <p:cNvSpPr/>
          <p:nvPr/>
        </p:nvSpPr>
        <p:spPr>
          <a:xfrm>
            <a:off x="4479480" y="620712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3.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 txBox="1"/>
          <p:nvPr/>
        </p:nvSpPr>
        <p:spPr>
          <a:xfrm>
            <a:off x="304920" y="685440"/>
            <a:ext cx="8534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3.14 Diploidy and balancing selection vari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iploidy preserves variation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By “hiding” recessive allel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Balanced polymorphism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May result from the heterozygote advantage or frequency-dependent selecti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 txBox="1"/>
          <p:nvPr/>
        </p:nvSpPr>
        <p:spPr>
          <a:xfrm>
            <a:off x="304920" y="685800"/>
            <a:ext cx="853416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ome variations may be neutra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Providing no apparent advantage or disadvantag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0" name="Group 7"/>
          <p:cNvGrpSpPr/>
          <p:nvPr/>
        </p:nvGrpSpPr>
        <p:grpSpPr>
          <a:xfrm>
            <a:off x="428760" y="3013200"/>
            <a:ext cx="8234280" cy="3170520"/>
            <a:chOff x="428760" y="3013200"/>
            <a:chExt cx="8234280" cy="3170520"/>
          </a:xfrm>
        </p:grpSpPr>
        <p:pic>
          <p:nvPicPr>
            <p:cNvPr id="711" name="Picture 4" descr="_x001c_13_14NeutralVariation_UP.jpg                                   0050CFAB_x0003_203                            BE61E8D3:"/>
            <p:cNvPicPr/>
            <p:nvPr/>
          </p:nvPicPr>
          <p:blipFill>
            <a:blip r:embed="rId1"/>
            <a:stretch/>
          </p:blipFill>
          <p:spPr>
            <a:xfrm>
              <a:off x="428760" y="3013200"/>
              <a:ext cx="8234280" cy="308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2" name="Text Box 5"/>
            <p:cNvSpPr/>
            <p:nvPr/>
          </p:nvSpPr>
          <p:spPr>
            <a:xfrm>
              <a:off x="3793680" y="5907240"/>
              <a:ext cx="107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3.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 txBox="1"/>
          <p:nvPr/>
        </p:nvSpPr>
        <p:spPr>
          <a:xfrm>
            <a:off x="304920" y="685800"/>
            <a:ext cx="8534160" cy="29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3.15 The perpetuation of genes defines evolutionary fitnes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n individual’s fitnes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Is the contribution it makes to the gene pool of the next generati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 txBox="1"/>
          <p:nvPr/>
        </p:nvSpPr>
        <p:spPr>
          <a:xfrm>
            <a:off x="304920" y="685800"/>
            <a:ext cx="8534160" cy="59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13.16 Natural selection can alter variation in a population in three way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tabilizing selection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64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Favors intermediate phenotypes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Directional selection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64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Acts against individuals at one of the phenotypic extremes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Disruptive selection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64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Favors individuals at both extremes of the phenotypic range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"/>
          <p:cNvSpPr txBox="1"/>
          <p:nvPr/>
        </p:nvSpPr>
        <p:spPr>
          <a:xfrm>
            <a:off x="304920" y="685800"/>
            <a:ext cx="853416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ree possible effects of natural select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9" name="Group 19"/>
          <p:cNvGrpSpPr/>
          <p:nvPr/>
        </p:nvGrpSpPr>
        <p:grpSpPr>
          <a:xfrm>
            <a:off x="514080" y="1338120"/>
            <a:ext cx="8091720" cy="5139000"/>
            <a:chOff x="514080" y="1338120"/>
            <a:chExt cx="8091720" cy="5139000"/>
          </a:xfrm>
        </p:grpSpPr>
        <p:pic>
          <p:nvPicPr>
            <p:cNvPr id="720" name="Picture 5" descr="_x001f_13_16NaturalSelectModes_3_U.jpg                                0050CFAB_x0003_203                            BE61E8D3:"/>
            <p:cNvPicPr/>
            <p:nvPr/>
          </p:nvPicPr>
          <p:blipFill>
            <a:blip r:embed="rId1"/>
            <a:stretch/>
          </p:blipFill>
          <p:spPr>
            <a:xfrm>
              <a:off x="1295280" y="1338120"/>
              <a:ext cx="7310520" cy="499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1" name="Text Box 6"/>
            <p:cNvSpPr/>
            <p:nvPr/>
          </p:nvSpPr>
          <p:spPr>
            <a:xfrm>
              <a:off x="5261040" y="1519200"/>
              <a:ext cx="761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riginal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opul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Line 7"/>
            <p:cNvSpPr/>
            <p:nvPr/>
          </p:nvSpPr>
          <p:spPr>
            <a:xfrm flipV="1">
              <a:off x="5138640" y="1654200"/>
              <a:ext cx="173160" cy="35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Text Box 8"/>
            <p:cNvSpPr/>
            <p:nvPr/>
          </p:nvSpPr>
          <p:spPr>
            <a:xfrm>
              <a:off x="1802520" y="6219720"/>
              <a:ext cx="1398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tabilizing sele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Text Box 9"/>
            <p:cNvSpPr/>
            <p:nvPr/>
          </p:nvSpPr>
          <p:spPr>
            <a:xfrm>
              <a:off x="1319400" y="3459240"/>
              <a:ext cx="761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riginal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opul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10"/>
            <p:cNvSpPr/>
            <p:nvPr/>
          </p:nvSpPr>
          <p:spPr>
            <a:xfrm flipH="1" flipV="1">
              <a:off x="1893960" y="3836880"/>
              <a:ext cx="355680" cy="952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Text Box 11"/>
            <p:cNvSpPr/>
            <p:nvPr/>
          </p:nvSpPr>
          <p:spPr>
            <a:xfrm>
              <a:off x="2594160" y="3462480"/>
              <a:ext cx="761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volved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opul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Line 12"/>
            <p:cNvSpPr/>
            <p:nvPr/>
          </p:nvSpPr>
          <p:spPr>
            <a:xfrm flipV="1">
              <a:off x="2600280" y="3860640"/>
              <a:ext cx="297000" cy="63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Text Box 13"/>
            <p:cNvSpPr/>
            <p:nvPr/>
          </p:nvSpPr>
          <p:spPr>
            <a:xfrm rot="16200000">
              <a:off x="3064320" y="2179080"/>
              <a:ext cx="1449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requency of individual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Text Box 14"/>
            <p:cNvSpPr/>
            <p:nvPr/>
          </p:nvSpPr>
          <p:spPr>
            <a:xfrm>
              <a:off x="4300920" y="3435480"/>
              <a:ext cx="1425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henotypes (fur color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Text Box 15"/>
            <p:cNvSpPr/>
            <p:nvPr/>
          </p:nvSpPr>
          <p:spPr>
            <a:xfrm>
              <a:off x="4321080" y="6230880"/>
              <a:ext cx="141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irectional sele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Text Box 16"/>
            <p:cNvSpPr/>
            <p:nvPr/>
          </p:nvSpPr>
          <p:spPr>
            <a:xfrm>
              <a:off x="6751440" y="6227640"/>
              <a:ext cx="1383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isruptive sele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Text Box 17"/>
            <p:cNvSpPr/>
            <p:nvPr/>
          </p:nvSpPr>
          <p:spPr>
            <a:xfrm>
              <a:off x="514080" y="6176880"/>
              <a:ext cx="107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3.1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3.17 Sexual selection may produce sexual dimorphis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exual selection leads to the evolution of secondary sexual characteristic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Which may give individuals an advantage in mating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5" name="Group 9"/>
          <p:cNvGrpSpPr/>
          <p:nvPr/>
        </p:nvGrpSpPr>
        <p:grpSpPr>
          <a:xfrm>
            <a:off x="1928880" y="3981600"/>
            <a:ext cx="3247920" cy="2441520"/>
            <a:chOff x="1928880" y="3981600"/>
            <a:chExt cx="3247920" cy="2441520"/>
          </a:xfrm>
        </p:grpSpPr>
        <p:pic>
          <p:nvPicPr>
            <p:cNvPr id="736" name="Picture 4" descr="_x001e_13_17aIntrasexualSelect_UP.jpg                                 0050CFAB_x0003_203                            BE61E8D3:"/>
            <p:cNvPicPr/>
            <p:nvPr/>
          </p:nvPicPr>
          <p:blipFill>
            <a:blip r:embed="rId1"/>
            <a:stretch/>
          </p:blipFill>
          <p:spPr>
            <a:xfrm>
              <a:off x="1928880" y="3981600"/>
              <a:ext cx="3247920" cy="22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7" name="Text Box 6"/>
            <p:cNvSpPr/>
            <p:nvPr/>
          </p:nvSpPr>
          <p:spPr>
            <a:xfrm>
              <a:off x="2795040" y="6146640"/>
              <a:ext cx="118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3.17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8" name="Group 8"/>
          <p:cNvGrpSpPr/>
          <p:nvPr/>
        </p:nvGrpSpPr>
        <p:grpSpPr>
          <a:xfrm>
            <a:off x="5710320" y="3578400"/>
            <a:ext cx="1566720" cy="2836800"/>
            <a:chOff x="5710320" y="3578400"/>
            <a:chExt cx="1566720" cy="2836800"/>
          </a:xfrm>
        </p:grpSpPr>
        <p:pic>
          <p:nvPicPr>
            <p:cNvPr id="739" name="Picture 5" descr="_x0014_13_17bPeacock_UP.jpg                                           0050CFAB_x0003_203                            BE61E8D3:"/>
            <p:cNvPicPr/>
            <p:nvPr/>
          </p:nvPicPr>
          <p:blipFill>
            <a:blip r:embed="rId2"/>
            <a:stretch/>
          </p:blipFill>
          <p:spPr>
            <a:xfrm>
              <a:off x="5710320" y="3578400"/>
              <a:ext cx="1566720" cy="267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0" name="Text Box 7"/>
            <p:cNvSpPr/>
            <p:nvPr/>
          </p:nvSpPr>
          <p:spPr>
            <a:xfrm>
              <a:off x="5906880" y="6138720"/>
              <a:ext cx="118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3.17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 txBox="1"/>
          <p:nvPr/>
        </p:nvSpPr>
        <p:spPr>
          <a:xfrm>
            <a:off x="304920" y="685800"/>
            <a:ext cx="853416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3.18 Natural selection cannot fashion perfect organism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re are at least four reasons why natural selection cannot produce perfect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Organisms are limited by historical constraint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daptations are often compromis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hance and natural selection interac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lection can only edit existing variation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f you look at any organism critically, you are first struck by the differences from other organisms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urther observations often reveals that an organism’s features show some relationship to where the organism lives and what it does in its environm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ARWIN’S THEORY OF EVOLU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3.1 A sea voyage helped Darwin frame his theory of evolu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00280" indent="-330480">
              <a:spcBef>
                <a:spcPts val="788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On his visit to the Galápagos Islands: </a:t>
            </a:r>
            <a:r>
              <a:rPr b="0" lang="en-US" sz="21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(VIDEO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6200" indent="-533520">
              <a:spcBef>
                <a:spcPts val="675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harles Darwin observed many unique organism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6200" indent="-533520">
              <a:spcBef>
                <a:spcPts val="675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Iguan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34"/>
          <p:cNvGrpSpPr/>
          <p:nvPr/>
        </p:nvGrpSpPr>
        <p:grpSpPr>
          <a:xfrm>
            <a:off x="2279520" y="3394080"/>
            <a:ext cx="5597640" cy="3035160"/>
            <a:chOff x="2279520" y="3394080"/>
            <a:chExt cx="5597640" cy="3035160"/>
          </a:xfrm>
        </p:grpSpPr>
        <p:pic>
          <p:nvPicPr>
            <p:cNvPr id="370" name="Picture 31" descr="_x0019_13_01aMarineIguana_UP.jpg                                      0050CFAB_x0003_203                            BE61E8D3:"/>
            <p:cNvPicPr/>
            <p:nvPr/>
          </p:nvPicPr>
          <p:blipFill>
            <a:blip r:embed="rId3"/>
            <a:stretch/>
          </p:blipFill>
          <p:spPr>
            <a:xfrm>
              <a:off x="3336840" y="3394080"/>
              <a:ext cx="4540320" cy="30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Text Box 32"/>
            <p:cNvSpPr/>
            <p:nvPr/>
          </p:nvSpPr>
          <p:spPr>
            <a:xfrm>
              <a:off x="2279520" y="612756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3.1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TextBox 7"/>
          <p:cNvSpPr/>
          <p:nvPr/>
        </p:nvSpPr>
        <p:spPr>
          <a:xfrm>
            <a:off x="204840" y="3357720"/>
            <a:ext cx="2550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75c01"/>
                </a:solidFill>
                <a:latin typeface="Arial"/>
              </a:rPr>
              <a:t>Note: Special structures or behaviors help the organism survive and reproduce in a </a:t>
            </a:r>
            <a:r>
              <a:rPr b="0" i="1" lang="en-US" sz="2400" spc="-1" strike="noStrike" u="sng">
                <a:solidFill>
                  <a:srgbClr val="e75c01"/>
                </a:solidFill>
                <a:uFillTx/>
                <a:latin typeface="Arial"/>
              </a:rPr>
              <a:t>particular enviro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92240" y="274320"/>
            <a:ext cx="85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LIVING SPECIES HAVE ARISEN FROM EARLIER LIFE FORMS AND THAT SPECIES CHANGE OVER TIME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arwin’s main ideas can be traced back to the ancient Greek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naximander (about 2,500 years ago) suggested that life arose in water and that simpler forms preceded more complex forms of life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ristotle believed that species were fixed and did not evolve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Judeo-Christian tradition that all species were created in a single act of creation about 6,000 years ago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304920" y="685800"/>
            <a:ext cx="8534160" cy="57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n the century prior to Darwi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e75c01"/>
                </a:solidFill>
                <a:uFillTx/>
                <a:latin typeface="Century Schoolbook"/>
              </a:rPr>
              <a:t>Buffon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(mid-1700s) suggested that Earth was much older than 6,000 years,  and raised the possibility that different species arose from common ancestors, although he later argued against this point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e study of fossils suggested that life forms chang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Video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 u="sng">
                <a:solidFill>
                  <a:srgbClr val="e75c01"/>
                </a:solidFill>
                <a:uFillTx/>
                <a:latin typeface="Century Schoolbook"/>
              </a:rPr>
              <a:t>Lamarck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(early 1800s) was the first to strongly support the idea of evolution, but he believed the mechanism for change was the inheritance of acquired characteristic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He proposed that by using or not using its body parts, an individual may develop certain traits that are passed on to its offspring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0:54:38Z</dcterms:created>
  <dc:creator>Christopher Delgado</dc:creator>
  <dc:description/>
  <dc:language>en-US</dc:language>
  <cp:lastModifiedBy> </cp:lastModifiedBy>
  <cp:lastPrinted>2005-04-02T23:11:35Z</cp:lastPrinted>
  <dcterms:modified xsi:type="dcterms:W3CDTF">2010-02-23T23:46:24Z</dcterms:modified>
  <cp:revision>599</cp:revision>
  <dc:subject/>
  <dc:title>Slide 1</dc:title>
</cp:coreProperties>
</file>